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9DD4-8A21-4929-9410-23549FFB207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5BB-CD54-474A-AFB9-4495E456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9AA-369F-49CC-ABE2-D3340828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6EE-1558-413A-BDEF-478C65FA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2EE0-A8D4-4A44-BD20-299A8EB0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BF28-BF59-4AAD-A3BF-E9821ABA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EE44-BA3E-483C-8616-95DD7524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5D15-89A4-485E-88DD-0FBFD79C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2C96-E3A3-47CA-810E-330DCDFE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DD7D-FFBE-4B69-A086-C6B7494E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15F8-0C94-4C0A-90A3-558AA4BE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9A3E-05C0-4607-953D-894BF4AF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6BA-20C3-4F51-86B4-46C3546F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AC9D-A26C-47C1-9698-867E36EF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14C2-A409-4E35-86EF-F0315C5A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9163-04FD-4350-983F-E37F4DF5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F8B3-4FAC-47DA-9D24-B570F425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8833-0548-4CF6-A684-38388714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047-3B7A-439F-9A76-6421B420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D25-BE95-4C6D-90A8-C5E9798D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737-288D-4EF5-923E-1662B1B2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0C9B-8575-4F3F-AC0B-5570C505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867F-2410-4EE1-B179-B0D90001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674E-23B0-4848-A961-E3A3F7A4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31CE-A13A-4A2A-93E4-BD4F45AE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B054-0189-460A-9235-87DE92D2D1D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BF75-E32B-4168-B233-F525BFFB6EF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8.png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7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500"/>
                            </p:stCondLst>
                            <p:childTnLst>
                              <p:par>
                                <p:cTn id="7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9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"/>
                            </p:stCondLst>
                            <p:childTnLst>
                              <p:par>
                                <p:cTn id="8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2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6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450"/>
                            </p:stCondLst>
                            <p:childTnLst>
                              <p:par>
                                <p:cTn id="86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250"/>
                            </p:stCondLst>
                            <p:childTnLst>
                              <p:par>
                                <p:cTn id="87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800"/>
                            </p:stCondLst>
                            <p:childTnLst>
                              <p:par>
                                <p:cTn id="88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300"/>
                            </p:stCondLst>
                            <p:childTnLst>
                              <p:par>
                                <p:cTn id="89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50"/>
                            </p:stCondLst>
                            <p:childTnLst>
                              <p:par>
                                <p:cTn id="89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21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92000" y="242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1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42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900"/>
                            </p:stCondLst>
                            <p:childTnLst>
                              <p:par>
                                <p:cTn id="10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650"/>
                            </p:stCondLst>
                            <p:childTnLst>
                              <p:par>
                                <p:cTn id="10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850"/>
                            </p:stCondLst>
                            <p:childTnLst>
                              <p:par>
                                <p:cTn id="10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550"/>
                            </p:stCondLst>
                            <p:childTnLst>
                              <p:par>
                                <p:cTn id="10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6050"/>
                            </p:stCondLst>
                            <p:childTnLst>
                              <p:par>
                                <p:cTn id="10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6550"/>
                            </p:stCondLst>
                            <p:childTnLst>
                              <p:par>
                                <p:cTn id="1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50"/>
                            </p:stCondLst>
                            <p:childTnLst>
                              <p:par>
                                <p:cTn id="113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550"/>
                            </p:stCondLst>
                            <p:childTnLst>
                              <p:par>
                                <p:cTn id="114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200"/>
                            </p:stCondLst>
                            <p:childTnLst>
                              <p:par>
                                <p:cTn id="116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750"/>
                            </p:stCondLst>
                            <p:childTnLst>
                              <p:par>
                                <p:cTn id="117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250"/>
                            </p:stCondLst>
                            <p:childTnLst>
                              <p:par>
                                <p:cTn id="11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9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450"/>
                            </p:stCondLst>
                            <p:childTnLst>
                              <p:par>
                                <p:cTn id="120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60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700"/>
                            </p:stCondLst>
                            <p:childTnLst>
                              <p:par>
                                <p:cTn id="122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7750"/>
                            </p:stCondLst>
                            <p:childTnLst>
                              <p:par>
                                <p:cTn id="124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8250"/>
                            </p:stCondLst>
                            <p:childTnLst>
                              <p:par>
                                <p:cTn id="125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9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3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7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8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2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9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3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7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8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41:39Z</dcterms:modified>
  <cp:revision>659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