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E1E8-0D7A-46F8-A014-0A027BC2CA2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D504-DB76-4EA2-973E-951C5031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806-4C97-40D6-982C-71565554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496-F039-45FC-A38B-AC8A0AFE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D5E5-6E62-42E0-92A1-B4AD9891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8D90-72DB-49C3-A34B-2DFDEDCF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3297-5344-4377-87B7-4A0C96D6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0557-8837-4002-B56A-3AA2D6C7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63CA-066E-4B46-8ED8-B5053CFC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0E41-076F-43B7-ABCB-9F5EC12A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A6BE-3451-489B-96A9-6BC622D5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6016-FB57-47A4-8351-B302A422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3688-B885-4107-9505-163EDE70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5D86-B866-4FA7-8B96-B798A502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3086-8D0A-4D2B-82DC-4CA6DA2A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8B63-6B15-48D7-9E13-5CB415CD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85E5-8819-4023-A025-98AD12C5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D13A-32C0-49C3-9A1A-25487300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B77C-5FC5-45B6-8E27-BEE82349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907C-A795-4658-8018-DEB5F2FF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075-1314-42D7-9E9C-A7F7A7D9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3BC-2355-4D5A-ABA4-ADBD03CC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6F25-BC0B-439D-813F-FCD611AB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0FD9-6173-4D16-B486-61B9FF72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60C9-B002-4117-9599-D2ADBF77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A6D6-F775-48ED-B6DE-902ED9E8C2CC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AA3C-1C5A-48AE-A6F6-EDAEA814FB0A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8.png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6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500"/>
                            </p:stCondLst>
                            <p:childTnLst>
                              <p:par>
                                <p:cTn id="6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7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8000"/>
                            </p:stCondLst>
                            <p:childTnLst>
                              <p:par>
                                <p:cTn id="6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500"/>
                            </p:stCondLst>
                            <p:childTnLst>
                              <p:par>
                                <p:cTn id="7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0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95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7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500"/>
                            </p:stCondLst>
                            <p:childTnLst>
                              <p:par>
                                <p:cTn id="8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500"/>
                            </p:stCondLst>
                            <p:childTnLst>
                              <p:par>
                                <p:cTn id="8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2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6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450"/>
                            </p:stCondLst>
                            <p:childTnLst>
                              <p:par>
                                <p:cTn id="86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250"/>
                            </p:stCondLst>
                            <p:childTnLst>
                              <p:par>
                                <p:cTn id="87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800"/>
                            </p:stCondLst>
                            <p:childTnLst>
                              <p:par>
                                <p:cTn id="88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300"/>
                            </p:stCondLst>
                            <p:childTnLst>
                              <p:par>
                                <p:cTn id="89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50"/>
                            </p:stCondLst>
                            <p:childTnLst>
                              <p:par>
                                <p:cTn id="89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21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92000" y="242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1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42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400"/>
                            </p:stCondLst>
                            <p:childTnLst>
                              <p:par>
                                <p:cTn id="10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3900"/>
                            </p:stCondLst>
                            <p:childTnLst>
                              <p:par>
                                <p:cTn id="10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900"/>
                            </p:stCondLst>
                            <p:childTnLst>
                              <p:par>
                                <p:cTn id="10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6900"/>
                            </p:stCondLst>
                            <p:childTnLst>
                              <p:par>
                                <p:cTn id="1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650"/>
                            </p:stCondLst>
                            <p:childTnLst>
                              <p:par>
                                <p:cTn id="10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850"/>
                            </p:stCondLst>
                            <p:childTnLst>
                              <p:par>
                                <p:cTn id="10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550"/>
                            </p:stCondLst>
                            <p:childTnLst>
                              <p:par>
                                <p:cTn id="10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6050"/>
                            </p:stCondLst>
                            <p:childTnLst>
                              <p:par>
                                <p:cTn id="10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6550"/>
                            </p:stCondLst>
                            <p:childTnLst>
                              <p:par>
                                <p:cTn id="1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50"/>
                            </p:stCondLst>
                            <p:childTnLst>
                              <p:par>
                                <p:cTn id="113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550"/>
                            </p:stCondLst>
                            <p:childTnLst>
                              <p:par>
                                <p:cTn id="114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3200"/>
                            </p:stCondLst>
                            <p:childTnLst>
                              <p:par>
                                <p:cTn id="116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750"/>
                            </p:stCondLst>
                            <p:childTnLst>
                              <p:par>
                                <p:cTn id="117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250"/>
                            </p:stCondLst>
                            <p:childTnLst>
                              <p:par>
                                <p:cTn id="11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49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450"/>
                            </p:stCondLst>
                            <p:childTnLst>
                              <p:par>
                                <p:cTn id="120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60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6700"/>
                            </p:stCondLst>
                            <p:childTnLst>
                              <p:par>
                                <p:cTn id="122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7200"/>
                            </p:stCondLst>
                            <p:childTnLst>
                              <p:par>
                                <p:cTn id="123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7750"/>
                            </p:stCondLst>
                            <p:childTnLst>
                              <p:par>
                                <p:cTn id="124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8250"/>
                            </p:stCondLst>
                            <p:childTnLst>
                              <p:par>
                                <p:cTn id="125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5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9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3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7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2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4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8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0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0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8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2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0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9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3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7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0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8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2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41:39Z</dcterms:modified>
  <cp:revision>659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