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1777-0054-4CB1-90A8-9BDBC13086D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C15-8271-4A40-8DCC-AC4FC945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FDC-26E6-43D0-9039-976E20E7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8A6-D502-4EFC-BCC5-81360BB7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896-AF27-40DF-8EDE-785D996D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A857-2BC1-4BD2-BFED-7203B23D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705B-6A8B-4B56-8840-6BBE7BFA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6FCB-0ED4-416F-8DA3-773EB218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C515-D3CD-4E9E-96FB-E14EA47D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D455-7D6A-4707-9172-C1640445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A0BB-2310-4754-B8DD-AEC895EC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53BB-40AA-4368-9984-97C5EEAD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E7A8-C02B-42BF-BA24-AB0F05DC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E538-244A-47B8-8826-07DA1E85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55B1-420A-4C27-9FEA-DE9F4FCE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685E-912A-4736-B48F-68E18F9A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7E8E-578B-4540-A8FA-57D1E0BF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91A4-1DE4-4101-946A-304EE77A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F79-0748-47CE-ABD5-EAD733A3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7DF-75BD-4896-BF30-8E635F12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0B4-EC4D-4BFC-8A59-E4AB8446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92CD-11E7-4076-9EF5-D8121B09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7A81-5BE0-4A24-AFBB-382F5C01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3D4-F2FD-42C0-B511-62DE4350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15FA-2934-4066-841E-8C1859AE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A839-EAF8-42C8-A84A-2784D69226B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478A-C196-44FB-8CE6-5E538D2ED87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8.png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6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500"/>
                            </p:stCondLst>
                            <p:childTnLst>
                              <p:par>
                                <p:cTn id="6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7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8000"/>
                            </p:stCondLst>
                            <p:childTnLst>
                              <p:par>
                                <p:cTn id="6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500"/>
                            </p:stCondLst>
                            <p:childTnLst>
                              <p:par>
                                <p:cTn id="7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0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95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500"/>
                            </p:stCondLst>
                            <p:childTnLst>
                              <p:par>
                                <p:cTn id="8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500"/>
                            </p:stCondLst>
                            <p:childTnLst>
                              <p:par>
                                <p:cTn id="8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2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6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450"/>
                            </p:stCondLst>
                            <p:childTnLst>
                              <p:par>
                                <p:cTn id="86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250"/>
                            </p:stCondLst>
                            <p:childTnLst>
                              <p:par>
                                <p:cTn id="87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800"/>
                            </p:stCondLst>
                            <p:childTnLst>
                              <p:par>
                                <p:cTn id="88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300"/>
                            </p:stCondLst>
                            <p:childTnLst>
                              <p:par>
                                <p:cTn id="89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50"/>
                            </p:stCondLst>
                            <p:childTnLst>
                              <p:par>
                                <p:cTn id="89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21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92000" y="242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1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42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400"/>
                            </p:stCondLst>
                            <p:childTnLst>
                              <p:par>
                                <p:cTn id="10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3900"/>
                            </p:stCondLst>
                            <p:childTnLst>
                              <p:par>
                                <p:cTn id="10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900"/>
                            </p:stCondLst>
                            <p:childTnLst>
                              <p:par>
                                <p:cTn id="10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690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650"/>
                            </p:stCondLst>
                            <p:childTnLst>
                              <p:par>
                                <p:cTn id="10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850"/>
                            </p:stCondLst>
                            <p:childTnLst>
                              <p:par>
                                <p:cTn id="10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550"/>
                            </p:stCondLst>
                            <p:childTnLst>
                              <p:par>
                                <p:cTn id="10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6050"/>
                            </p:stCondLst>
                            <p:childTnLst>
                              <p:par>
                                <p:cTn id="10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6550"/>
                            </p:stCondLst>
                            <p:childTnLst>
                              <p:par>
                                <p:cTn id="1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50"/>
                            </p:stCondLst>
                            <p:childTnLst>
                              <p:par>
                                <p:cTn id="113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550"/>
                            </p:stCondLst>
                            <p:childTnLst>
                              <p:par>
                                <p:cTn id="114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200"/>
                            </p:stCondLst>
                            <p:childTnLst>
                              <p:par>
                                <p:cTn id="116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750"/>
                            </p:stCondLst>
                            <p:childTnLst>
                              <p:par>
                                <p:cTn id="117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250"/>
                            </p:stCondLst>
                            <p:childTnLst>
                              <p:par>
                                <p:cTn id="11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49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450"/>
                            </p:stCondLst>
                            <p:childTnLst>
                              <p:par>
                                <p:cTn id="120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60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6700"/>
                            </p:stCondLst>
                            <p:childTnLst>
                              <p:par>
                                <p:cTn id="122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23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7750"/>
                            </p:stCondLst>
                            <p:childTnLst>
                              <p:par>
                                <p:cTn id="124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8250"/>
                            </p:stCondLst>
                            <p:childTnLst>
                              <p:par>
                                <p:cTn id="125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5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9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3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7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4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8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0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8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2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0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9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3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7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0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8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2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41:39Z</dcterms:modified>
  <cp:revision>659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