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wmf" ContentType="image/x-wmf"/>
  <Override PartName="/ppt/media/image9.wmf" ContentType="image/x-wmf"/>
  <Override PartName="/ppt/media/image14.png" ContentType="image/png"/>
  <Override PartName="/ppt/media/image16.png" ContentType="image/png"/>
  <Override PartName="/ppt/media/image15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4.bin" ContentType="application/vnd.openxmlformats-officedocument.oleObject"/>
  <Override PartName="/ppt/embeddings/oleObject2.xlsx" ContentType="application/vnd.openxmlformats-officedocument.spreadsheetml.shee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E35EB-C9D8-4C54-BDCC-482AE28006ED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Según lo que solían decir los economistas la estrategia ideal es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Según lo que solían decir los economistas la estrategia ideal es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Según lo que solían decir los economistas la estrategia ideal es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Apertura Comercial: promover competitivida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Reducción significativa de aranceles y demás restriccion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Trato no discriminatorio con empresas internacionales: atraer invers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En los 90 la inversión dio un salto, pero desde 1998 ha descendido, manteniéndose estable en los últimos año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Necesitamos mayores niveles de inversión si queremos crecer a un ritmo de 7%, por ejempl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El TLC abre las puertas a la inversión directa extranjer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DED42-6313-402E-999F-B6320F2A3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C4CBF-C3AB-4555-9A9E-20A08D798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E8B60-5FCC-445F-9CDB-67A811D10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79D0B-FB1A-4C9C-89E2-826F1B2C4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BE141-F919-4923-9CC9-5AC4DAD03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41202-4A7E-4554-917E-1AB75AC92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8B9CA-0508-4BF7-831B-6557F4A6D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E91F3-B0CD-4A66-B083-A183CBC07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21A71-F305-4D7F-A6E3-AAAD25DE4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4A636-FFD6-470F-8F9B-ED21DA375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F95D6-8965-4582-9B2D-1C03C5971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721A3-471A-4FC4-BC6B-B3BE7FE54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ED58D-3345-4210-A63C-BC6AAC775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6564D-25AC-408D-8441-C91D13830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236E0-298D-41EA-9C45-28E0AD3A9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27748-8D1D-4CC3-AEAD-DA36F4C78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C6857-FE5B-4ED2-A4FB-4DC3271CA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85632-21D6-4D1E-B9A9-449479855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B3D53-F5FC-4DBE-B058-5AE1DE3C6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73F1B-0839-40A9-A7C6-669FA056B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07DAD-41CF-43B8-8292-311F35A58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1F409-34CE-4312-8615-CCE43616E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43D6C-790D-4E59-8798-CFED5B2BF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C4E0B-7E01-4FBD-B359-16E76AFDF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d40026"/>
                </a:gs>
                <a:gs pos="100000">
                  <a:srgbClr val="88242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82424"/>
                </a:gs>
                <a:gs pos="100000">
                  <a:srgbClr val="d4002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88242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cc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50000">
                    <a:srgbClr val="ffffff"/>
                  </a:gs>
                  <a:gs pos="100000">
                    <a:srgbClr val="cc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100000">
                    <a:srgbClr val="d4002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cc33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50000">
                    <a:srgbClr val="ffffff"/>
                  </a:gs>
                  <a:gs pos="100000">
                    <a:srgbClr val="cc33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3009D-AC96-4BA9-AD9A-E22C26FF961E}" type="slidenum">
              <a:rPr b="0" lang="es-E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6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7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88242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9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c3300"/>
                </a:gs>
                <a:gs pos="50000">
                  <a:srgbClr val="ffffff"/>
                </a:gs>
                <a:gs pos="100000">
                  <a:srgbClr val="cc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d40026"/>
                </a:gs>
                <a:gs pos="100000">
                  <a:srgbClr val="cc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c3300"/>
                </a:gs>
                <a:gs pos="100000">
                  <a:srgbClr val="d4002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2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3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88242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cc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50000">
                    <a:srgbClr val="ffffff"/>
                  </a:gs>
                  <a:gs pos="100000">
                    <a:srgbClr val="cc33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093B2-3B6F-468F-B622-89F40486F4CF}" type="slidenum">
              <a:rPr b="0" lang="es-E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image" Target="../media/image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0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11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12.png"/><Relationship Id="rId10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image" Target="../media/image9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1.png"/><Relationship Id="rId8" Type="http://schemas.openxmlformats.org/officeDocument/2006/relationships/image" Target="../media/image13.wmf"/><Relationship Id="rId9" Type="http://schemas.openxmlformats.org/officeDocument/2006/relationships/image" Target="../media/image13.wmf"/><Relationship Id="rId10" Type="http://schemas.openxmlformats.org/officeDocument/2006/relationships/image" Target="../media/image13.wmf"/><Relationship Id="rId11" Type="http://schemas.openxmlformats.org/officeDocument/2006/relationships/image" Target="../media/image13.wmf"/><Relationship Id="rId12" Type="http://schemas.openxmlformats.org/officeDocument/2006/relationships/image" Target="../media/image13.wmf"/><Relationship Id="rId13" Type="http://schemas.openxmlformats.org/officeDocument/2006/relationships/image" Target="../media/image13.wmf"/><Relationship Id="rId14" Type="http://schemas.openxmlformats.org/officeDocument/2006/relationships/image" Target="../media/image13.wmf"/><Relationship Id="rId15" Type="http://schemas.openxmlformats.org/officeDocument/2006/relationships/image" Target="../media/image13.wmf"/><Relationship Id="rId16" Type="http://schemas.openxmlformats.org/officeDocument/2006/relationships/image" Target="../media/image13.wmf"/><Relationship Id="rId17" Type="http://schemas.openxmlformats.org/officeDocument/2006/relationships/image" Target="../media/image13.wmf"/><Relationship Id="rId18" Type="http://schemas.openxmlformats.org/officeDocument/2006/relationships/image" Target="../media/image13.wmf"/><Relationship Id="rId19" Type="http://schemas.openxmlformats.org/officeDocument/2006/relationships/image" Target="../media/image13.wmf"/><Relationship Id="rId20" Type="http://schemas.openxmlformats.org/officeDocument/2006/relationships/oleObject" Target="../embeddings/oleObject4.bin"/><Relationship Id="rId21" Type="http://schemas.openxmlformats.org/officeDocument/2006/relationships/image" Target="../media/image8.png"/><Relationship Id="rId22" Type="http://schemas.openxmlformats.org/officeDocument/2006/relationships/image" Target="../media/image13.wmf"/><Relationship Id="rId23" Type="http://schemas.openxmlformats.org/officeDocument/2006/relationships/image" Target="../media/image13.wmf"/><Relationship Id="rId24" Type="http://schemas.openxmlformats.org/officeDocument/2006/relationships/image" Target="../media/image13.wmf"/><Relationship Id="rId25" Type="http://schemas.openxmlformats.org/officeDocument/2006/relationships/image" Target="../media/image13.wmf"/><Relationship Id="rId26" Type="http://schemas.openxmlformats.org/officeDocument/2006/relationships/image" Target="../media/image13.wmf"/><Relationship Id="rId27" Type="http://schemas.openxmlformats.org/officeDocument/2006/relationships/image" Target="../media/image13.wmf"/><Relationship Id="rId28" Type="http://schemas.openxmlformats.org/officeDocument/2006/relationships/image" Target="../media/image13.wmf"/><Relationship Id="rId29" Type="http://schemas.openxmlformats.org/officeDocument/2006/relationships/image" Target="../media/image13.wmf"/><Relationship Id="rId30" Type="http://schemas.openxmlformats.org/officeDocument/2006/relationships/slideLayout" Target="../slideLayouts/slideLayout1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042920" y="2205000"/>
            <a:ext cx="7705800" cy="20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25200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STRATEGIA DE APERTURA COMERCI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Liberalización unilateral gen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ahoma"/>
              </a:rPr>
              <a:t>Acuerdo Multilateral: OMC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Acumulación de acuerdos regionales y bilatera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0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77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"/>
                            </p:stCondLst>
                            <p:childTnLst>
                              <p:par>
                                <p:cTn id="479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81" dur="500"/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1000"/>
                            </p:stCondLst>
                            <p:childTnLst>
                              <p:par>
                                <p:cTn id="483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85" dur="500"/>
                                        <p:tgtEl>
                                          <p:spTgt spid="4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1500"/>
                            </p:stCondLst>
                            <p:childTnLst>
                              <p:par>
                                <p:cTn id="487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89" dur="500"/>
                                        <p:tgtEl>
                                          <p:spTgt spid="4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SISTEMA COMERCIO INTERNACION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52080" indent="-352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GATT (1947) tuvo carácter provisional, solamente trataba reglas sobre reducción de aranceles de importació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2080" indent="-352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Tarea reducción de aranceles de importación de productos industriales (excluido comercio agrícola y textil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2080" indent="-352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Mecanismos de negociación Rond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2080" indent="-352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1994 se crea la Organización Mundial de Comercio OMC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2080" indent="-352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Principio básico no discriminación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812520" indent="-282960" algn="just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Naci</a:t>
            </a: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ón Más Favorecid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12520" indent="-282960" algn="just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Trato Nacion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0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96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500"/>
                            </p:stCondLst>
                            <p:childTnLst>
                              <p:par>
                                <p:cTn id="49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500"/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000"/>
                            </p:stCondLst>
                            <p:childTnLst>
                              <p:par>
                                <p:cTn id="50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6" dur="500"/>
                                        <p:tgtEl>
                                          <p:spTgt spid="4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4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4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1500"/>
                            </p:stCondLst>
                            <p:childTnLst>
                              <p:par>
                                <p:cTn id="51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500"/>
                                        <p:tgtEl>
                                          <p:spTgt spid="4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4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4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2000"/>
                            </p:stCondLst>
                            <p:childTnLst>
                              <p:par>
                                <p:cTn id="51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4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4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4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2500"/>
                            </p:stCondLst>
                            <p:childTnLst>
                              <p:par>
                                <p:cTn id="52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4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4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4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3000"/>
                            </p:stCondLst>
                            <p:childTnLst>
                              <p:par>
                                <p:cTn id="52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4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4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4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3500"/>
                            </p:stCondLst>
                            <p:childTnLst>
                              <p:par>
                                <p:cTn id="53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4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4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4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ACUERDOS OMC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grpSp>
        <p:nvGrpSpPr>
          <p:cNvPr id="448" name=""/>
          <p:cNvGrpSpPr/>
          <p:nvPr/>
        </p:nvGrpSpPr>
        <p:grpSpPr>
          <a:xfrm>
            <a:off x="971640" y="1906560"/>
            <a:ext cx="7916760" cy="4786200"/>
            <a:chOff x="971640" y="1906560"/>
            <a:chExt cx="7916760" cy="4786200"/>
          </a:xfrm>
        </p:grpSpPr>
        <p:pic>
          <p:nvPicPr>
            <p:cNvPr id="449" name="" descr=""/>
            <p:cNvPicPr/>
            <p:nvPr/>
          </p:nvPicPr>
          <p:blipFill>
            <a:blip r:embed="rId1"/>
            <a:stretch/>
          </p:blipFill>
          <p:spPr>
            <a:xfrm>
              <a:off x="971640" y="1906560"/>
              <a:ext cx="7916760" cy="478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0" name=""/>
            <p:cNvSpPr txBox="1"/>
            <p:nvPr/>
          </p:nvSpPr>
          <p:spPr>
            <a:xfrm>
              <a:off x="971640" y="1906560"/>
              <a:ext cx="7916760" cy="4786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 algn="ctr">
                <a:spcBef>
                  <a:spcPts val="950"/>
                </a:spcBef>
                <a:buClr>
                  <a:srgbClr val="ffffff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fill="hold">
                      <p:stCondLst>
                        <p:cond delay="0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45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500"/>
                            </p:stCondLst>
                            <p:childTnLst>
                              <p:par>
                                <p:cTn id="547" nodeType="afterEffect" fill="hold" presetClass="entr" presetID="2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49" dur="20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NACIÓN MÁS FAVORECID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333680" y="4723920"/>
            <a:ext cx="480996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169560" indent="-169560" algn="just">
              <a:spcBef>
                <a:spcPts val="45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Perú tiene 20% arancel trig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169560" indent="-169560" algn="just">
              <a:spcBef>
                <a:spcPts val="45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Tahoma"/>
              </a:rPr>
              <a:t>Perú otorga concesión arancelaria a Canadá (Trigo 0% Arancel de Importación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169560" indent="-169560" algn="just">
              <a:spcBef>
                <a:spcPts val="45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8000"/>
                </a:solidFill>
                <a:latin typeface="Tahoma"/>
              </a:rPr>
              <a:t>Perú debe extender automáticamente al resto de países el 0% de Arancel de Importación para el Trigo de Europa, India y China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453" name=""/>
          <p:cNvGraphicFramePr/>
          <p:nvPr/>
        </p:nvGraphicFramePr>
        <p:xfrm>
          <a:off x="5797440" y="3213000"/>
          <a:ext cx="1511280" cy="136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97440" y="3213000"/>
                    <a:ext cx="1511280" cy="13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5" name="" descr=""/>
          <p:cNvPicPr/>
          <p:nvPr/>
        </p:nvPicPr>
        <p:blipFill>
          <a:blip r:embed="rId3"/>
          <a:stretch/>
        </p:blipFill>
        <p:spPr>
          <a:xfrm>
            <a:off x="1116000" y="4267080"/>
            <a:ext cx="1530360" cy="2186280"/>
          </a:xfrm>
          <a:prstGeom prst="rect">
            <a:avLst/>
          </a:prstGeom>
          <a:ln w="0">
            <a:noFill/>
          </a:ln>
        </p:spPr>
      </p:pic>
      <p:sp>
        <p:nvSpPr>
          <p:cNvPr id="456" name=""/>
          <p:cNvSpPr/>
          <p:nvPr/>
        </p:nvSpPr>
        <p:spPr>
          <a:xfrm>
            <a:off x="6181560" y="3716280"/>
            <a:ext cx="766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Garamond"/>
              </a:rPr>
              <a:t>Chin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476360" y="5156280"/>
            <a:ext cx="647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Garamond"/>
              </a:rPr>
              <a:t>Per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58" name=""/>
          <p:cNvGraphicFramePr/>
          <p:nvPr/>
        </p:nvGraphicFramePr>
        <p:xfrm>
          <a:off x="4068720" y="3429000"/>
          <a:ext cx="1214640" cy="1295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5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068720" y="3429000"/>
                    <a:ext cx="12146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0" name=""/>
          <p:cNvGraphicFramePr/>
          <p:nvPr/>
        </p:nvGraphicFramePr>
        <p:xfrm>
          <a:off x="1116000" y="1806480"/>
          <a:ext cx="1800360" cy="12621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461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16000" y="1806480"/>
                    <a:ext cx="1800360" cy="12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2" name=""/>
          <p:cNvGraphicFramePr/>
          <p:nvPr/>
        </p:nvGraphicFramePr>
        <p:xfrm>
          <a:off x="3781440" y="1555920"/>
          <a:ext cx="2371680" cy="1819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463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781440" y="1555920"/>
                    <a:ext cx="237168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4" name=""/>
          <p:cNvSpPr/>
          <p:nvPr/>
        </p:nvSpPr>
        <p:spPr>
          <a:xfrm>
            <a:off x="1152360" y="2084400"/>
            <a:ext cx="9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Garamond"/>
              </a:rPr>
              <a:t>Canad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4213080" y="3811680"/>
            <a:ext cx="64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Garamond"/>
              </a:rPr>
              <a:t>Ind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4861080" y="2421000"/>
            <a:ext cx="86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Garamond"/>
              </a:rPr>
              <a:t>Europ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 flipH="1" flipV="1">
            <a:off x="1620360" y="2563560"/>
            <a:ext cx="289080" cy="2421000"/>
          </a:xfrm>
          <a:prstGeom prst="line">
            <a:avLst/>
          </a:prstGeom>
          <a:ln w="76320">
            <a:solidFill>
              <a:srgbClr val="ffff00"/>
            </a:solidFill>
            <a:prstDash val="sysDot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 flipV="1">
            <a:off x="2052720" y="2995200"/>
            <a:ext cx="1944720" cy="1800360"/>
          </a:xfrm>
          <a:prstGeom prst="line">
            <a:avLst/>
          </a:prstGeom>
          <a:ln w="76320">
            <a:solidFill>
              <a:srgbClr val="008000"/>
            </a:solidFill>
            <a:prstDash val="sysDot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 flipV="1">
            <a:off x="2052720" y="4147920"/>
            <a:ext cx="2519280" cy="1368360"/>
          </a:xfrm>
          <a:prstGeom prst="line">
            <a:avLst/>
          </a:prstGeom>
          <a:ln w="76320">
            <a:solidFill>
              <a:srgbClr val="008000"/>
            </a:solidFill>
            <a:prstDash val="sysDot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 flipV="1">
            <a:off x="2268360" y="4005360"/>
            <a:ext cx="4032360" cy="1800000"/>
          </a:xfrm>
          <a:prstGeom prst="line">
            <a:avLst/>
          </a:prstGeom>
          <a:ln w="76320">
            <a:solidFill>
              <a:srgbClr val="008000"/>
            </a:solidFill>
            <a:prstDash val="sysDot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0" dur="indefinite" restart="never" nodeType="tmRoot">
          <p:childTnLst>
            <p:seq>
              <p:cTn id="551" dur="indefinite" nodeType="mainSeq">
                <p:childTnLst>
                  <p:par>
                    <p:cTn id="552" fill="hold">
                      <p:stCondLst>
                        <p:cond delay="0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56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500"/>
                            </p:stCondLst>
                            <p:childTnLst>
                              <p:par>
                                <p:cTn id="5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0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3" dur="1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fill="hold">
                            <p:stCondLst>
                              <p:cond delay="1500"/>
                            </p:stCondLst>
                            <p:childTnLst>
                              <p:par>
                                <p:cTn id="56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7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70" dur="1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3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76" dur="1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79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82" dur="1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5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88" dur="1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fill="hold">
                            <p:stCondLst>
                              <p:cond delay="2500"/>
                            </p:stCondLst>
                            <p:childTnLst>
                              <p:par>
                                <p:cTn id="59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2" dur="500"/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fill="hold">
                            <p:stCondLst>
                              <p:cond delay="3000"/>
                            </p:stCondLst>
                            <p:childTnLst>
                              <p:par>
                                <p:cTn id="59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6" dur="500"/>
                                        <p:tgtEl>
                                          <p:spTgt spid="4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9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3500"/>
                            </p:stCondLst>
                            <p:childTnLst>
                              <p:par>
                                <p:cTn id="60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3" dur="500"/>
                                        <p:tgtEl>
                                          <p:spTgt spid="4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6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09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2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1" name=""/>
          <p:cNvGraphicFramePr/>
          <p:nvPr/>
        </p:nvGraphicFramePr>
        <p:xfrm>
          <a:off x="5076720" y="1555920"/>
          <a:ext cx="2371680" cy="181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76720" y="1555920"/>
                    <a:ext cx="237168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3" name=""/>
          <p:cNvGraphicFramePr/>
          <p:nvPr/>
        </p:nvGraphicFramePr>
        <p:xfrm>
          <a:off x="5364000" y="3429000"/>
          <a:ext cx="1214640" cy="1295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7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64000" y="3429000"/>
                    <a:ext cx="12146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75" name="" descr=""/>
          <p:cNvPicPr/>
          <p:nvPr/>
        </p:nvPicPr>
        <p:blipFill>
          <a:blip r:embed="rId5"/>
          <a:stretch/>
        </p:blipFill>
        <p:spPr>
          <a:xfrm>
            <a:off x="1835280" y="4338720"/>
            <a:ext cx="1530360" cy="2185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76" name=""/>
          <p:cNvGraphicFramePr/>
          <p:nvPr/>
        </p:nvGraphicFramePr>
        <p:xfrm>
          <a:off x="1692360" y="1879560"/>
          <a:ext cx="1800000" cy="12621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477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92360" y="1879560"/>
                    <a:ext cx="1800000" cy="12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5200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TRATO NACION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79" name=""/>
          <p:cNvSpPr/>
          <p:nvPr/>
        </p:nvSpPr>
        <p:spPr>
          <a:xfrm>
            <a:off x="3492360" y="5086440"/>
            <a:ext cx="550872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Una vez traspasada la frontera el Perú debe dar tratamiento tributario y reglamentario a las naranjas de origen peruano y extranjer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0" name="" descr=""/>
          <p:cNvPicPr/>
          <p:nvPr/>
        </p:nvPicPr>
        <p:blipFill>
          <a:blip r:embed="rId8"/>
          <a:stretch/>
        </p:blipFill>
        <p:spPr>
          <a:xfrm>
            <a:off x="4211640" y="3429000"/>
            <a:ext cx="312840" cy="309600"/>
          </a:xfrm>
          <a:prstGeom prst="rect">
            <a:avLst/>
          </a:prstGeom>
          <a:ln w="0">
            <a:noFill/>
          </a:ln>
        </p:spPr>
      </p:pic>
      <p:pic>
        <p:nvPicPr>
          <p:cNvPr id="481" name="" descr=""/>
          <p:cNvPicPr/>
          <p:nvPr/>
        </p:nvPicPr>
        <p:blipFill>
          <a:blip r:embed="rId9"/>
          <a:stretch/>
        </p:blipFill>
        <p:spPr>
          <a:xfrm>
            <a:off x="2700360" y="4581360"/>
            <a:ext cx="312840" cy="308160"/>
          </a:xfrm>
          <a:prstGeom prst="rect">
            <a:avLst/>
          </a:prstGeom>
          <a:ln w="0">
            <a:noFill/>
          </a:ln>
        </p:spPr>
      </p:pic>
      <p:pic>
        <p:nvPicPr>
          <p:cNvPr id="482" name="" descr=""/>
          <p:cNvPicPr/>
          <p:nvPr/>
        </p:nvPicPr>
        <p:blipFill>
          <a:blip r:embed="rId10"/>
          <a:stretch/>
        </p:blipFill>
        <p:spPr>
          <a:xfrm>
            <a:off x="5076720" y="278136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483" name="" descr=""/>
          <p:cNvPicPr/>
          <p:nvPr/>
        </p:nvPicPr>
        <p:blipFill>
          <a:blip r:embed="rId11"/>
          <a:stretch/>
        </p:blipFill>
        <p:spPr>
          <a:xfrm>
            <a:off x="2916360" y="558972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484" name="" descr=""/>
          <p:cNvPicPr/>
          <p:nvPr/>
        </p:nvPicPr>
        <p:blipFill>
          <a:blip r:embed="rId12"/>
          <a:stretch/>
        </p:blipFill>
        <p:spPr>
          <a:xfrm>
            <a:off x="2195640" y="465300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485" name="" descr=""/>
          <p:cNvPicPr/>
          <p:nvPr/>
        </p:nvPicPr>
        <p:blipFill>
          <a:blip r:embed="rId13"/>
          <a:stretch/>
        </p:blipFill>
        <p:spPr>
          <a:xfrm>
            <a:off x="4572000" y="443700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486" name="" descr=""/>
          <p:cNvPicPr/>
          <p:nvPr/>
        </p:nvPicPr>
        <p:blipFill>
          <a:blip r:embed="rId14"/>
          <a:stretch/>
        </p:blipFill>
        <p:spPr>
          <a:xfrm>
            <a:off x="5580000" y="400536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487" name="" descr=""/>
          <p:cNvPicPr/>
          <p:nvPr/>
        </p:nvPicPr>
        <p:blipFill>
          <a:blip r:embed="rId15"/>
          <a:stretch/>
        </p:blipFill>
        <p:spPr>
          <a:xfrm>
            <a:off x="2050920" y="321300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488" name="" descr=""/>
          <p:cNvPicPr/>
          <p:nvPr/>
        </p:nvPicPr>
        <p:blipFill>
          <a:blip r:embed="rId16"/>
          <a:stretch/>
        </p:blipFill>
        <p:spPr>
          <a:xfrm>
            <a:off x="2050920" y="242100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489" name="" descr=""/>
          <p:cNvPicPr/>
          <p:nvPr/>
        </p:nvPicPr>
        <p:blipFill>
          <a:blip r:embed="rId17"/>
          <a:stretch/>
        </p:blipFill>
        <p:spPr>
          <a:xfrm>
            <a:off x="2484360" y="573408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490" name="" descr=""/>
          <p:cNvPicPr/>
          <p:nvPr/>
        </p:nvPicPr>
        <p:blipFill>
          <a:blip r:embed="rId18"/>
          <a:stretch/>
        </p:blipFill>
        <p:spPr>
          <a:xfrm>
            <a:off x="2411280" y="508464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491" name="" descr=""/>
          <p:cNvPicPr/>
          <p:nvPr/>
        </p:nvPicPr>
        <p:blipFill>
          <a:blip r:embed="rId19"/>
          <a:stretch/>
        </p:blipFill>
        <p:spPr>
          <a:xfrm>
            <a:off x="2627280" y="5445000"/>
            <a:ext cx="360360" cy="360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92" name=""/>
          <p:cNvGraphicFramePr/>
          <p:nvPr/>
        </p:nvGraphicFramePr>
        <p:xfrm>
          <a:off x="7093080" y="3213000"/>
          <a:ext cx="1511280" cy="136836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493" name="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7093080" y="3213000"/>
                    <a:ext cx="1511280" cy="13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4" name=""/>
          <p:cNvSpPr/>
          <p:nvPr/>
        </p:nvSpPr>
        <p:spPr>
          <a:xfrm>
            <a:off x="7477200" y="3716280"/>
            <a:ext cx="766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Garamond"/>
              </a:rPr>
              <a:t>Chin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170080" y="5386320"/>
            <a:ext cx="647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Garamond"/>
              </a:rPr>
              <a:t>Per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1728720" y="2133720"/>
            <a:ext cx="9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Garamond"/>
              </a:rPr>
              <a:t>Canad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5508720" y="3811680"/>
            <a:ext cx="647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Garamond"/>
              </a:rPr>
              <a:t>Ind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6156360" y="2421000"/>
            <a:ext cx="863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Garamond"/>
              </a:rPr>
              <a:t>Europ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9" name="" descr=""/>
          <p:cNvPicPr/>
          <p:nvPr/>
        </p:nvPicPr>
        <p:blipFill>
          <a:blip r:embed="rId22"/>
          <a:stretch/>
        </p:blipFill>
        <p:spPr>
          <a:xfrm>
            <a:off x="3708360" y="494172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00" name="" descr=""/>
          <p:cNvPicPr/>
          <p:nvPr/>
        </p:nvPicPr>
        <p:blipFill>
          <a:blip r:embed="rId23"/>
          <a:stretch/>
        </p:blipFill>
        <p:spPr>
          <a:xfrm>
            <a:off x="3348000" y="3933720"/>
            <a:ext cx="312840" cy="309600"/>
          </a:xfrm>
          <a:prstGeom prst="rect">
            <a:avLst/>
          </a:prstGeom>
          <a:ln w="0">
            <a:noFill/>
          </a:ln>
        </p:spPr>
      </p:pic>
      <p:pic>
        <p:nvPicPr>
          <p:cNvPr id="501" name="" descr=""/>
          <p:cNvPicPr/>
          <p:nvPr/>
        </p:nvPicPr>
        <p:blipFill>
          <a:blip r:embed="rId24"/>
          <a:stretch/>
        </p:blipFill>
        <p:spPr>
          <a:xfrm>
            <a:off x="1908000" y="400536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02" name="" descr=""/>
          <p:cNvPicPr/>
          <p:nvPr/>
        </p:nvPicPr>
        <p:blipFill>
          <a:blip r:embed="rId25"/>
          <a:stretch/>
        </p:blipFill>
        <p:spPr>
          <a:xfrm>
            <a:off x="2916360" y="602136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03" name="" descr=""/>
          <p:cNvPicPr/>
          <p:nvPr/>
        </p:nvPicPr>
        <p:blipFill>
          <a:blip r:embed="rId26"/>
          <a:stretch/>
        </p:blipFill>
        <p:spPr>
          <a:xfrm>
            <a:off x="5364000" y="494172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04" name="" descr=""/>
          <p:cNvPicPr/>
          <p:nvPr/>
        </p:nvPicPr>
        <p:blipFill>
          <a:blip r:embed="rId27"/>
          <a:stretch/>
        </p:blipFill>
        <p:spPr>
          <a:xfrm>
            <a:off x="7596360" y="393372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05" name="" descr=""/>
          <p:cNvPicPr/>
          <p:nvPr/>
        </p:nvPicPr>
        <p:blipFill>
          <a:blip r:embed="rId28"/>
          <a:stretch/>
        </p:blipFill>
        <p:spPr>
          <a:xfrm>
            <a:off x="6516720" y="450864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06" name="" descr=""/>
          <p:cNvPicPr/>
          <p:nvPr/>
        </p:nvPicPr>
        <p:blipFill>
          <a:blip r:embed="rId29"/>
          <a:stretch/>
        </p:blipFill>
        <p:spPr>
          <a:xfrm>
            <a:off x="4211640" y="5516640"/>
            <a:ext cx="3603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3" dur="indefinite" restart="never" nodeType="tmRoot">
          <p:childTnLst>
            <p:seq>
              <p:cTn id="614" dur="indefinite" nodeType="mainSeq">
                <p:childTnLst>
                  <p:par>
                    <p:cTn id="615" fill="hold">
                      <p:stCondLst>
                        <p:cond delay="0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19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fill="hold">
                            <p:stCondLst>
                              <p:cond delay="500"/>
                            </p:stCondLst>
                            <p:childTnLst>
                              <p:par>
                                <p:cTn id="6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3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26" dur="10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1500"/>
                            </p:stCondLst>
                            <p:childTnLst>
                              <p:par>
                                <p:cTn id="6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0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33" dur="10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6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39" dur="10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42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45" dur="10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8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51" dur="10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fill="hold">
                            <p:stCondLst>
                              <p:cond delay="3500"/>
                            </p:stCondLst>
                            <p:childTnLst>
                              <p:par>
                                <p:cTn id="6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5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6" fill="hold">
                            <p:stCondLst>
                              <p:cond delay="4000"/>
                            </p:stCondLst>
                            <p:childTnLst>
                              <p:par>
                                <p:cTn id="6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9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4500"/>
                            </p:stCondLst>
                            <p:childTnLst>
                              <p:par>
                                <p:cTn id="6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3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fill="hold">
                            <p:stCondLst>
                              <p:cond delay="5000"/>
                            </p:stCondLst>
                            <p:childTnLst>
                              <p:par>
                                <p:cTn id="6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fill="hold">
                            <p:stCondLst>
                              <p:cond delay="5500"/>
                            </p:stCondLst>
                            <p:childTnLst>
                              <p:par>
                                <p:cTn id="6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1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fill="hold">
                            <p:stCondLst>
                              <p:cond delay="6000"/>
                            </p:stCondLst>
                            <p:childTnLst>
                              <p:par>
                                <p:cTn id="673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fill="hold">
                            <p:stCondLst>
                              <p:cond delay="6000"/>
                            </p:stCondLst>
                            <p:childTnLst>
                              <p:par>
                                <p:cTn id="6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8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9" fill="hold">
                            <p:stCondLst>
                              <p:cond delay="6500"/>
                            </p:stCondLst>
                            <p:childTnLst>
                              <p:par>
                                <p:cTn id="680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fill="hold">
                            <p:stCondLst>
                              <p:cond delay="6500"/>
                            </p:stCondLst>
                            <p:childTnLst>
                              <p:par>
                                <p:cTn id="6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5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6" fill="hold">
                            <p:stCondLst>
                              <p:cond delay="7000"/>
                            </p:stCondLst>
                            <p:childTnLst>
                              <p:par>
                                <p:cTn id="6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9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" fill="hold">
                            <p:stCondLst>
                              <p:cond delay="7500"/>
                            </p:stCondLst>
                            <p:childTnLst>
                              <p:par>
                                <p:cTn id="6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3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fill="hold">
                            <p:stCondLst>
                              <p:cond delay="8000"/>
                            </p:stCondLst>
                            <p:childTnLst>
                              <p:par>
                                <p:cTn id="695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fill="hold">
                            <p:stCondLst>
                              <p:cond delay="8000"/>
                            </p:stCondLst>
                            <p:childTnLst>
                              <p:par>
                                <p:cTn id="6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0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fill="hold">
                            <p:stCondLst>
                              <p:cond delay="8500"/>
                            </p:stCondLst>
                            <p:childTnLst>
                              <p:par>
                                <p:cTn id="702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8500"/>
                            </p:stCondLst>
                            <p:childTnLst>
                              <p:par>
                                <p:cTn id="7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7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8" fill="hold">
                            <p:stCondLst>
                              <p:cond delay="9000"/>
                            </p:stCondLst>
                            <p:childTnLst>
                              <p:par>
                                <p:cTn id="7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1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2" fill="hold">
                            <p:stCondLst>
                              <p:cond delay="9500"/>
                            </p:stCondLst>
                            <p:childTnLst>
                              <p:par>
                                <p:cTn id="7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5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fill="hold">
                            <p:stCondLst>
                              <p:cond delay="10000"/>
                            </p:stCondLst>
                            <p:childTnLst>
                              <p:par>
                                <p:cTn id="717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fill="hold">
                            <p:stCondLst>
                              <p:cond delay="10000"/>
                            </p:stCondLst>
                            <p:childTnLst>
                              <p:par>
                                <p:cTn id="7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2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fill="hold">
                            <p:stCondLst>
                              <p:cond delay="10500"/>
                            </p:stCondLst>
                            <p:childTnLst>
                              <p:par>
                                <p:cTn id="724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6" fill="hold">
                            <p:stCondLst>
                              <p:cond delay="10500"/>
                            </p:stCondLst>
                            <p:childTnLst>
                              <p:par>
                                <p:cTn id="7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9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0" fill="hold">
                            <p:stCondLst>
                              <p:cond delay="11000"/>
                            </p:stCondLst>
                            <p:childTnLst>
                              <p:par>
                                <p:cTn id="7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3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fill="hold">
                            <p:stCondLst>
                              <p:cond delay="11500"/>
                            </p:stCondLst>
                            <p:childTnLst>
                              <p:par>
                                <p:cTn id="7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7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8" fill="hold">
                            <p:stCondLst>
                              <p:cond delay="12000"/>
                            </p:stCondLst>
                            <p:childTnLst>
                              <p:par>
                                <p:cTn id="739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1" fill="hold">
                            <p:stCondLst>
                              <p:cond delay="12000"/>
                            </p:stCondLst>
                            <p:childTnLst>
                              <p:par>
                                <p:cTn id="7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4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5" fill="hold">
                            <p:stCondLst>
                              <p:cond delay="12500"/>
                            </p:stCondLst>
                            <p:childTnLst>
                              <p:par>
                                <p:cTn id="746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8" fill="hold">
                            <p:stCondLst>
                              <p:cond delay="12500"/>
                            </p:stCondLst>
                            <p:childTnLst>
                              <p:par>
                                <p:cTn id="7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1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2" fill="hold">
                            <p:stCondLst>
                              <p:cond delay="13000"/>
                            </p:stCondLst>
                            <p:childTnLst>
                              <p:par>
                                <p:cTn id="753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5" fill="hold">
                            <p:stCondLst>
                              <p:cond delay="13000"/>
                            </p:stCondLst>
                            <p:childTnLst>
                              <p:par>
                                <p:cTn id="7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8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9" fill="hold">
                            <p:stCondLst>
                              <p:cond delay="13500"/>
                            </p:stCondLst>
                            <p:childTnLst>
                              <p:par>
                                <p:cTn id="760" nodeType="after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2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6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REGIONALISMO EN GATT/OMC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OMC permite los acuerdos de comercio preferenciale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65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65040" indent="-365040" algn="just">
              <a:spcBef>
                <a:spcPts val="601"/>
              </a:spcBef>
              <a:buClr>
                <a:srgbClr val="ffffff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Las barreras comerciales después de la integración no aumentan en promedio para los países que no son miembros del acuerdo regional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65040" indent="-365040" algn="just">
              <a:spcBef>
                <a:spcPts val="601"/>
              </a:spcBef>
              <a:buClr>
                <a:srgbClr val="ffffff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Las tarifas y otras regulaciones son removidas sustancialmente para el comercio intraregional en un periodo razonable de tiempo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65040" indent="-365040" algn="just">
              <a:spcBef>
                <a:spcPts val="601"/>
              </a:spcBef>
              <a:buClr>
                <a:srgbClr val="ffffff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Sean notificados a la OMC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767" dur="indefinite" restart="never" nodeType="tmRoot">
          <p:childTnLst>
            <p:seq>
              <p:cTn id="768" dur="indefinite" nodeType="mainSeq">
                <p:childTnLst>
                  <p:par>
                    <p:cTn id="769" fill="hold">
                      <p:stCondLst>
                        <p:cond delay="0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73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fill="hold">
                            <p:stCondLst>
                              <p:cond delay="500"/>
                            </p:stCondLst>
                            <p:childTnLst>
                              <p:par>
                                <p:cTn id="775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9" fill="hold">
                            <p:stCondLst>
                              <p:cond delay="1000"/>
                            </p:stCondLst>
                            <p:childTnLst>
                              <p:par>
                                <p:cTn id="780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5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5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4" fill="hold">
                            <p:stCondLst>
                              <p:cond delay="1500"/>
                            </p:stCondLst>
                            <p:childTnLst>
                              <p:par>
                                <p:cTn id="785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5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5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9" fill="hold">
                            <p:stCondLst>
                              <p:cond delay="2000"/>
                            </p:stCondLst>
                            <p:childTnLst>
                              <p:par>
                                <p:cTn id="790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2" dur="500" fill="hold"/>
                                        <p:tgtEl>
                                          <p:spTgt spid="5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5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TRATO ESPECIAL Y DIFERENCIADO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510" name=""/>
          <p:cNvSpPr/>
          <p:nvPr/>
        </p:nvSpPr>
        <p:spPr>
          <a:xfrm>
            <a:off x="684360" y="5157720"/>
            <a:ext cx="31669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SG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ATPDE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1332000" y="5300640"/>
            <a:ext cx="144360" cy="1297080"/>
          </a:xfrm>
          <a:custGeom>
            <a:avLst/>
            <a:gdLst>
              <a:gd name="textAreaLeft" fmla="*/ 92160 w 144360"/>
              <a:gd name="textAreaRight" fmla="*/ 144360 w 144360"/>
              <a:gd name="textAreaTop" fmla="*/ 33480 h 1297080"/>
              <a:gd name="textAreaBottom" fmla="*/ 1263600 h 1297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2" name="" descr=""/>
          <p:cNvPicPr/>
          <p:nvPr/>
        </p:nvPicPr>
        <p:blipFill>
          <a:blip r:embed="rId1"/>
          <a:stretch/>
        </p:blipFill>
        <p:spPr>
          <a:xfrm>
            <a:off x="6804000" y="3500280"/>
            <a:ext cx="2219400" cy="3081600"/>
          </a:xfrm>
          <a:prstGeom prst="rect">
            <a:avLst/>
          </a:prstGeom>
          <a:ln w="0">
            <a:noFill/>
          </a:ln>
        </p:spPr>
      </p:pic>
      <p:pic>
        <p:nvPicPr>
          <p:cNvPr id="513" name="" descr=""/>
          <p:cNvPicPr/>
          <p:nvPr/>
        </p:nvPicPr>
        <p:blipFill>
          <a:blip r:embed="rId2"/>
          <a:stretch/>
        </p:blipFill>
        <p:spPr>
          <a:xfrm>
            <a:off x="900000" y="1773360"/>
            <a:ext cx="4753080" cy="2927160"/>
          </a:xfrm>
          <a:prstGeom prst="rect">
            <a:avLst/>
          </a:prstGeom>
          <a:ln w="0">
            <a:noFill/>
          </a:ln>
        </p:spPr>
      </p:pic>
      <p:sp>
        <p:nvSpPr>
          <p:cNvPr id="514" name=""/>
          <p:cNvSpPr/>
          <p:nvPr/>
        </p:nvSpPr>
        <p:spPr>
          <a:xfrm>
            <a:off x="3924360" y="3645000"/>
            <a:ext cx="3598920" cy="1871640"/>
          </a:xfrm>
          <a:custGeom>
            <a:avLst/>
            <a:gdLst/>
            <a:ahLst/>
            <a:rect l="l" t="t" r="r" b="b"/>
            <a:pathLst>
              <a:path w="1451" h="1361">
                <a:moveTo>
                  <a:pt x="1451" y="1361"/>
                </a:moveTo>
                <a:cubicBezTo>
                  <a:pt x="1286" y="1292"/>
                  <a:pt x="703" y="1173"/>
                  <a:pt x="461" y="946"/>
                </a:cubicBezTo>
                <a:cubicBezTo>
                  <a:pt x="219" y="719"/>
                  <a:pt x="96" y="197"/>
                  <a:pt x="0" y="0"/>
                </a:cubicBezTo>
              </a:path>
            </a:pathLst>
          </a:custGeom>
          <a:noFill/>
          <a:ln w="44280">
            <a:solidFill>
              <a:srgbClr val="ffcc66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4" dur="indefinite" restart="never" nodeType="tmRoot">
          <p:childTnLst>
            <p:seq>
              <p:cTn id="795" dur="indefinite" nodeType="mainSeq">
                <p:childTnLst>
                  <p:par>
                    <p:cTn id="796" fill="hold">
                      <p:stCondLst>
                        <p:cond delay="0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00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fill="hold">
                            <p:stCondLst>
                              <p:cond delay="500"/>
                            </p:stCondLst>
                            <p:childTnLst>
                              <p:par>
                                <p:cTn id="802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80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5" nodeType="with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807" dur="1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8" fill="hold">
                            <p:stCondLst>
                              <p:cond delay="1500"/>
                            </p:stCondLst>
                            <p:childTnLst>
                              <p:par>
                                <p:cTn id="80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1" dur="2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2" fill="hold">
                            <p:stCondLst>
                              <p:cond delay="3500"/>
                            </p:stCondLst>
                            <p:childTnLst>
                              <p:par>
                                <p:cTn id="81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15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6" fill="hold">
                            <p:stCondLst>
                              <p:cond delay="4000"/>
                            </p:stCondLst>
                            <p:childTnLst>
                              <p:par>
                                <p:cTn id="817" nodeType="after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9" dur="500" fill="hold"/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500" fill="hold"/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500" fill="hold"/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500" fill="hold"/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3" dur="500"/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4" fill="hold">
                            <p:stCondLst>
                              <p:cond delay="4500"/>
                            </p:stCondLst>
                            <p:childTnLst>
                              <p:par>
                                <p:cTn id="82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7" dur="500" fill="hold"/>
                                        <p:tgtEl>
                                          <p:spTgt spid="5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500" fill="hold"/>
                                        <p:tgtEl>
                                          <p:spTgt spid="5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500" fill="hold"/>
                                        <p:tgtEl>
                                          <p:spTgt spid="5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500" fill="hold"/>
                                        <p:tgtEl>
                                          <p:spTgt spid="5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1" dur="500"/>
                                        <p:tgtEl>
                                          <p:spTgt spid="5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5200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STRATEGIA DE APERTURA COMERCI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Liberalización unilateral gen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Acuerdo Multilateral: OMC – Cancú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ahoma"/>
              </a:rPr>
              <a:t>Acumulación de acuerdos regionales y bilatera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2" dur="indefinite" restart="never" nodeType="tmRoot">
          <p:childTnLst>
            <p:seq>
              <p:cTn id="833" dur="indefinite" nodeType="mainSeq">
                <p:childTnLst>
                  <p:par>
                    <p:cTn id="834" fill="hold">
                      <p:stCondLst>
                        <p:cond delay="0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38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9" fill="hold">
                            <p:stCondLst>
                              <p:cond delay="500"/>
                            </p:stCondLst>
                            <p:childTnLst>
                              <p:par>
                                <p:cTn id="840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842" dur="500"/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fill="hold">
                            <p:stCondLst>
                              <p:cond delay="1000"/>
                            </p:stCondLst>
                            <p:childTnLst>
                              <p:par>
                                <p:cTn id="844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846" dur="500"/>
                                        <p:tgtEl>
                                          <p:spTgt spid="5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7" fill="hold">
                            <p:stCondLst>
                              <p:cond delay="1500"/>
                            </p:stCondLst>
                            <p:childTnLst>
                              <p:par>
                                <p:cTn id="848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850" dur="500"/>
                                        <p:tgtEl>
                                          <p:spTgt spid="5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Competitive liberalization: negociar bilateralmente para impulsar negociaciones en OMC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Enfrentar oposición en ALCA Brasil - Mercosu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Consideraciones geopolític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396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3960" indent="-190440" algn="just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Petróle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3960" indent="-190440" algn="just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Terrorismo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3960" indent="-190440" algn="just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Drog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INTERESES ESTRÁTEGICOS DE EEUU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1" dur="indefinite" restart="never" nodeType="tmRoot">
          <p:childTnLst>
            <p:seq>
              <p:cTn id="852" dur="indefinite" nodeType="mainSeq">
                <p:childTnLst>
                  <p:par>
                    <p:cTn id="853" fill="hold">
                      <p:stCondLst>
                        <p:cond delay="0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57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fill="hold">
                            <p:stCondLst>
                              <p:cond delay="500"/>
                            </p:stCondLst>
                            <p:childTnLst>
                              <p:par>
                                <p:cTn id="859" nodeType="after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1" dur="500" fill="hold"/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500" fill="hold"/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500" fill="hold"/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500" fill="hold"/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5" dur="500"/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6" fill="hold">
                            <p:stCondLst>
                              <p:cond delay="1450"/>
                            </p:stCondLst>
                            <p:childTnLst>
                              <p:par>
                                <p:cTn id="867" nodeType="after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9" dur="500" fill="hold"/>
                                        <p:tgtEl>
                                          <p:spTgt spid="5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500" fill="hold"/>
                                        <p:tgtEl>
                                          <p:spTgt spid="5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500" fill="hold"/>
                                        <p:tgtEl>
                                          <p:spTgt spid="5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" dur="500" fill="hold"/>
                                        <p:tgtEl>
                                          <p:spTgt spid="5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3" dur="500"/>
                                        <p:tgtEl>
                                          <p:spTgt spid="5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4" fill="hold">
                            <p:stCondLst>
                              <p:cond delay="2250"/>
                            </p:stCondLst>
                            <p:childTnLst>
                              <p:par>
                                <p:cTn id="875" nodeType="after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7" dur="500" fill="hold"/>
                                        <p:tgtEl>
                                          <p:spTgt spid="5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500" fill="hold"/>
                                        <p:tgtEl>
                                          <p:spTgt spid="5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500" fill="hold"/>
                                        <p:tgtEl>
                                          <p:spTgt spid="5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5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1" dur="500"/>
                                        <p:tgtEl>
                                          <p:spTgt spid="5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2" fill="hold">
                            <p:stCondLst>
                              <p:cond delay="2800"/>
                            </p:stCondLst>
                            <p:childTnLst>
                              <p:par>
                                <p:cTn id="883" nodeType="after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5" dur="500" fill="hold"/>
                                        <p:tgtEl>
                                          <p:spTgt spid="5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500" fill="hold"/>
                                        <p:tgtEl>
                                          <p:spTgt spid="5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7" dur="500" fill="hold"/>
                                        <p:tgtEl>
                                          <p:spTgt spid="5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500" fill="hold"/>
                                        <p:tgtEl>
                                          <p:spTgt spid="5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9" dur="500"/>
                                        <p:tgtEl>
                                          <p:spTgt spid="5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0" fill="hold">
                            <p:stCondLst>
                              <p:cond delay="3300"/>
                            </p:stCondLst>
                            <p:childTnLst>
                              <p:par>
                                <p:cTn id="891" nodeType="after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3" dur="500" fill="hold"/>
                                        <p:tgtEl>
                                          <p:spTgt spid="5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500" fill="hold"/>
                                        <p:tgtEl>
                                          <p:spTgt spid="5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5" dur="500" fill="hold"/>
                                        <p:tgtEl>
                                          <p:spTgt spid="5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6" dur="500" fill="hold"/>
                                        <p:tgtEl>
                                          <p:spTgt spid="5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7" dur="500"/>
                                        <p:tgtEl>
                                          <p:spTgt spid="5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8" fill="hold">
                            <p:stCondLst>
                              <p:cond delay="3850"/>
                            </p:stCondLst>
                            <p:childTnLst>
                              <p:par>
                                <p:cTn id="899" nodeType="after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1" dur="500" fill="hold"/>
                                        <p:tgtEl>
                                          <p:spTgt spid="5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500" fill="hold"/>
                                        <p:tgtEl>
                                          <p:spTgt spid="5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500" fill="hold"/>
                                        <p:tgtEl>
                                          <p:spTgt spid="5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500" fill="hold"/>
                                        <p:tgtEl>
                                          <p:spTgt spid="5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5" dur="500"/>
                                        <p:tgtEl>
                                          <p:spTgt spid="5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"/>
          <p:cNvSpPr/>
          <p:nvPr/>
        </p:nvSpPr>
        <p:spPr>
          <a:xfrm>
            <a:off x="826920" y="5554800"/>
            <a:ext cx="4724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Liberalización comercial a través de reducciones arancelarias (solamente medidas en fronter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"/>
          <p:cNvSpPr txBox="1"/>
          <p:nvPr/>
        </p:nvSpPr>
        <p:spPr>
          <a:xfrm rot="2163000">
            <a:off x="3362040" y="4725720"/>
            <a:ext cx="300996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882424"/>
                  </a:solidFill>
                  <a:miter/>
                </a:ln>
                <a:solidFill>
                  <a:srgbClr val="ffffff"/>
                </a:solidFill>
                <a:latin typeface="Garamond"/>
              </a:rPr>
              <a:t>Comercio Mercaderías</a:t>
            </a:r>
            <a:endParaRPr b="1" lang="en-US" sz="4000" spc="1" strike="noStrike">
              <a:ln w="9360">
                <a:solidFill>
                  <a:srgbClr val="882424"/>
                </a:solidFill>
                <a:miter/>
              </a:ln>
              <a:solidFill>
                <a:srgbClr val="ffffff"/>
              </a:solidFill>
              <a:latin typeface="Garamond"/>
              <a:ea typeface="Garamond"/>
            </a:endParaRPr>
          </a:p>
        </p:txBody>
      </p:sp>
      <p:cxnSp>
        <p:nvCxnSpPr>
          <p:cNvPr id="521" name=""/>
          <p:cNvCxnSpPr/>
          <p:nvPr/>
        </p:nvCxnSpPr>
        <p:spPr>
          <a:xfrm rot="10800000">
            <a:off x="4500000" y="3067920"/>
            <a:ext cx="1800720" cy="1680120"/>
          </a:xfrm>
          <a:prstGeom prst="curvedConnector5">
            <a:avLst>
              <a:gd name="adj1" fmla="val 49990"/>
              <a:gd name="adj2" fmla="val 50000"/>
              <a:gd name="adj3" fmla="val 49990"/>
            </a:avLst>
          </a:prstGeom>
          <a:ln w="38160">
            <a:solidFill>
              <a:srgbClr val="ffffff"/>
            </a:solidFill>
            <a:prstDash val="dash"/>
            <a:miter/>
          </a:ln>
        </p:spPr>
      </p:cxn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TRATADO DE LIBRE COMERCIO TRADICIONALES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523" name="" descr=""/>
          <p:cNvPicPr/>
          <p:nvPr/>
        </p:nvPicPr>
        <p:blipFill>
          <a:blip r:embed="rId1"/>
          <a:stretch/>
        </p:blipFill>
        <p:spPr>
          <a:xfrm>
            <a:off x="682560" y="1700280"/>
            <a:ext cx="4176720" cy="2592360"/>
          </a:xfrm>
          <a:prstGeom prst="rect">
            <a:avLst/>
          </a:prstGeom>
          <a:ln w="0">
            <a:noFill/>
          </a:ln>
        </p:spPr>
      </p:pic>
      <p:pic>
        <p:nvPicPr>
          <p:cNvPr id="524" name="" descr=""/>
          <p:cNvPicPr/>
          <p:nvPr/>
        </p:nvPicPr>
        <p:blipFill>
          <a:blip r:embed="rId2"/>
          <a:stretch/>
        </p:blipFill>
        <p:spPr>
          <a:xfrm>
            <a:off x="682560" y="1700280"/>
            <a:ext cx="4176720" cy="2592360"/>
          </a:xfrm>
          <a:prstGeom prst="rect">
            <a:avLst/>
          </a:prstGeom>
          <a:ln w="0">
            <a:noFill/>
          </a:ln>
        </p:spPr>
      </p:pic>
      <p:pic>
        <p:nvPicPr>
          <p:cNvPr id="525" name="" descr=""/>
          <p:cNvPicPr/>
          <p:nvPr/>
        </p:nvPicPr>
        <p:blipFill>
          <a:blip r:embed="rId3"/>
          <a:stretch/>
        </p:blipFill>
        <p:spPr>
          <a:xfrm>
            <a:off x="6567480" y="2995560"/>
            <a:ext cx="2325600" cy="32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6" dur="indefinite" restart="never" nodeType="tmRoot">
          <p:childTnLst>
            <p:seq>
              <p:cTn id="907" dur="indefinite" nodeType="mainSeq">
                <p:childTnLst>
                  <p:par>
                    <p:cTn id="908" fill="hold">
                      <p:stCondLst>
                        <p:cond delay="0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12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3" fill="hold">
                            <p:stCondLst>
                              <p:cond delay="500"/>
                            </p:stCondLst>
                            <p:childTnLst>
                              <p:par>
                                <p:cTn id="91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7" fill="hold">
                            <p:stCondLst>
                              <p:cond delay="1000"/>
                            </p:stCondLst>
                            <p:childTnLst>
                              <p:par>
                                <p:cTn id="91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0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1" fill="hold">
                            <p:stCondLst>
                              <p:cond delay="1500"/>
                            </p:stCondLst>
                            <p:childTnLst>
                              <p:par>
                                <p:cTn id="92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24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5" fill="hold">
                            <p:stCondLst>
                              <p:cond delay="2000"/>
                            </p:stCondLst>
                            <p:childTnLst>
                              <p:par>
                                <p:cTn id="9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8" fill="hold">
                            <p:stCondLst>
                              <p:cond delay="2500"/>
                            </p:stCondLst>
                            <p:childTnLst>
                              <p:par>
                                <p:cTn id="9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1" fill="hold">
                            <p:stCondLst>
                              <p:cond delay="3000"/>
                            </p:stCondLst>
                            <p:childTnLst>
                              <p:par>
                                <p:cTn id="93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4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792000" y="2421000"/>
            <a:ext cx="8317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TALLER DE</a:t>
            </a: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INTEGRACIÓN</a:t>
            </a: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COMERCIAL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6" name="" descr=""/>
          <p:cNvPicPr/>
          <p:nvPr/>
        </p:nvPicPr>
        <p:blipFill>
          <a:blip r:embed="rId1"/>
          <a:stretch/>
        </p:blipFill>
        <p:spPr>
          <a:xfrm>
            <a:off x="6443640" y="2421000"/>
            <a:ext cx="2592360" cy="3673440"/>
          </a:xfrm>
          <a:prstGeom prst="rect">
            <a:avLst/>
          </a:prstGeom>
          <a:ln w="0">
            <a:noFill/>
          </a:ln>
        </p:spPr>
      </p:pic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TRATADOS DE LIBRE COMERCIO ULTIMA GENERACIÓN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528" name="" descr=""/>
          <p:cNvPicPr/>
          <p:nvPr/>
        </p:nvPicPr>
        <p:blipFill>
          <a:blip r:embed="rId2"/>
          <a:stretch/>
        </p:blipFill>
        <p:spPr>
          <a:xfrm>
            <a:off x="108000" y="1824120"/>
            <a:ext cx="4824360" cy="2973240"/>
          </a:xfrm>
          <a:prstGeom prst="rect">
            <a:avLst/>
          </a:prstGeom>
          <a:ln w="0">
            <a:noFill/>
          </a:ln>
        </p:spPr>
      </p:pic>
      <p:sp>
        <p:nvSpPr>
          <p:cNvPr id="529" name=""/>
          <p:cNvSpPr/>
          <p:nvPr/>
        </p:nvSpPr>
        <p:spPr>
          <a:xfrm>
            <a:off x="1835280" y="1714680"/>
            <a:ext cx="1163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Servici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58920" y="4761000"/>
            <a:ext cx="259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Propiedad Intelectu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4851360" y="1916280"/>
            <a:ext cx="152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Inversio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4920" y="1628640"/>
            <a:ext cx="1800360" cy="30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2520" indent="-18252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Tahoma"/>
              </a:rPr>
              <a:t>Otros temas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Competenc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Trabajo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Medio ambient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Compras Gubernamental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E Commer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Facilitación de Comerci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Et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893880" y="5589720"/>
            <a:ext cx="5333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Integración más profunda incluye temas de regulación interna de los propios Esta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"/>
          <p:cNvSpPr txBox="1"/>
          <p:nvPr/>
        </p:nvSpPr>
        <p:spPr>
          <a:xfrm rot="2081400">
            <a:off x="4211280" y="4437000"/>
            <a:ext cx="30970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882424"/>
                  </a:solidFill>
                  <a:miter/>
                </a:ln>
                <a:solidFill>
                  <a:srgbClr val="ffffff"/>
                </a:solidFill>
                <a:latin typeface="Garamond"/>
              </a:rPr>
              <a:t>Comercio Mercaderías</a:t>
            </a:r>
            <a:endParaRPr b="1" lang="en-US" sz="4000" spc="1" strike="noStrike">
              <a:ln w="9360">
                <a:solidFill>
                  <a:srgbClr val="882424"/>
                </a:solidFill>
                <a:miter/>
              </a:ln>
              <a:solidFill>
                <a:srgbClr val="ffffff"/>
              </a:solidFill>
              <a:latin typeface="Garamond"/>
              <a:ea typeface="Garamond"/>
            </a:endParaRPr>
          </a:p>
        </p:txBody>
      </p:sp>
      <p:sp>
        <p:nvSpPr>
          <p:cNvPr id="535" name=""/>
          <p:cNvSpPr/>
          <p:nvPr/>
        </p:nvSpPr>
        <p:spPr>
          <a:xfrm flipH="1" flipV="1">
            <a:off x="1080720" y="2396880"/>
            <a:ext cx="971640" cy="81756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 flipV="1">
            <a:off x="2052720" y="2206440"/>
            <a:ext cx="0" cy="10062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 flipV="1">
            <a:off x="2052720" y="2493720"/>
            <a:ext cx="1079280" cy="7189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2052720" y="3213000"/>
            <a:ext cx="0" cy="9367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 flipH="1">
            <a:off x="1116000" y="3214800"/>
            <a:ext cx="936720" cy="5778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2052720" y="3213000"/>
            <a:ext cx="936720" cy="7207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41" name=""/>
          <p:cNvCxnSpPr/>
          <p:nvPr/>
        </p:nvCxnSpPr>
        <p:spPr>
          <a:xfrm rot="10800000">
            <a:off x="5060160" y="3185280"/>
            <a:ext cx="1527840" cy="1467720"/>
          </a:xfrm>
          <a:prstGeom prst="curvedConnector5">
            <a:avLst>
              <a:gd name="adj1" fmla="val 49988"/>
              <a:gd name="adj2" fmla="val 50000"/>
              <a:gd name="adj3" fmla="val 49988"/>
            </a:avLst>
          </a:prstGeom>
          <a:ln cap="sq" w="38160">
            <a:solidFill>
              <a:srgbClr val="ffffff"/>
            </a:solidFill>
            <a:miter/>
          </a:ln>
        </p:spPr>
      </p:cxnSp>
      <p:sp>
        <p:nvSpPr>
          <p:cNvPr id="542" name=""/>
          <p:cNvSpPr/>
          <p:nvPr/>
        </p:nvSpPr>
        <p:spPr>
          <a:xfrm flipH="1" flipV="1">
            <a:off x="6982920" y="3357720"/>
            <a:ext cx="613080" cy="8632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 flipV="1">
            <a:off x="7596360" y="3213000"/>
            <a:ext cx="0" cy="100656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 flipV="1">
            <a:off x="7596360" y="3357720"/>
            <a:ext cx="504720" cy="8632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7596360" y="4221000"/>
            <a:ext cx="0" cy="9367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 flipH="1">
            <a:off x="7308360" y="4221000"/>
            <a:ext cx="289080" cy="5032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7596360" y="4221000"/>
            <a:ext cx="576000" cy="79236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5" dur="indefinite" restart="never" nodeType="tmRoot">
          <p:childTnLst>
            <p:seq>
              <p:cTn id="936" dur="indefinite" nodeType="mainSeq">
                <p:childTnLst>
                  <p:par>
                    <p:cTn id="937" fill="hold">
                      <p:stCondLst>
                        <p:cond delay="0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41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2" fill="hold">
                            <p:stCondLst>
                              <p:cond delay="500"/>
                            </p:stCondLst>
                            <p:childTnLst>
                              <p:par>
                                <p:cTn id="9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5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6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7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9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0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1" fill="hold">
                            <p:stCondLst>
                              <p:cond delay="1000"/>
                            </p:stCondLst>
                            <p:childTnLst>
                              <p:par>
                                <p:cTn id="95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4" dur="1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5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6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7" fill="hold">
                            <p:stCondLst>
                              <p:cond delay="2000"/>
                            </p:stCondLst>
                            <p:childTnLst>
                              <p:par>
                                <p:cTn id="958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60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3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6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9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2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5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8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1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4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7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0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3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6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7" fill="hold">
                            <p:stCondLst>
                              <p:cond delay="2500"/>
                            </p:stCondLst>
                            <p:childTnLst>
                              <p:par>
                                <p:cTn id="99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0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1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2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3" fill="hold">
                            <p:stCondLst>
                              <p:cond delay="3400"/>
                            </p:stCondLst>
                            <p:childTnLst>
                              <p:par>
                                <p:cTn id="1004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6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7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8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9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1" fill="hold">
                            <p:stCondLst>
                              <p:cond delay="3900"/>
                            </p:stCondLst>
                            <p:childTnLst>
                              <p:par>
                                <p:cTn id="101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4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5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6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7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9" fill="hold">
                            <p:stCondLst>
                              <p:cond delay="4900"/>
                            </p:stCondLst>
                            <p:childTnLst>
                              <p:par>
                                <p:cTn id="102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22" dur="2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3" fill="hold">
                            <p:stCondLst>
                              <p:cond delay="6900"/>
                            </p:stCondLst>
                            <p:childTnLst>
                              <p:par>
                                <p:cTn id="10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6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"/>
          <p:cNvSpPr/>
          <p:nvPr/>
        </p:nvSpPr>
        <p:spPr>
          <a:xfrm>
            <a:off x="324000" y="3645000"/>
            <a:ext cx="31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COMERCIO BIE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4974120" y="2222640"/>
            <a:ext cx="218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Reglas de orig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5757840" y="2960640"/>
            <a:ext cx="3206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Administración Aduaner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5757840" y="4292640"/>
            <a:ext cx="26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Medidas sanitarias y fitosanitari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 flipV="1">
            <a:off x="3348000" y="1699920"/>
            <a:ext cx="936720" cy="187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4317840" y="1522440"/>
            <a:ext cx="234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Acceso al mercad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5038560" y="5121360"/>
            <a:ext cx="3494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Obstáculos técnicos al comerci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 flipV="1">
            <a:off x="3564000" y="2418840"/>
            <a:ext cx="1439640" cy="1219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 flipV="1">
            <a:off x="3745080" y="3139560"/>
            <a:ext cx="1979280" cy="600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3745080" y="3943440"/>
            <a:ext cx="1979280" cy="601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3565440" y="4124160"/>
            <a:ext cx="1438200" cy="1221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3348000" y="4232160"/>
            <a:ext cx="934920" cy="187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4317840" y="5840280"/>
            <a:ext cx="2028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Defensa comerci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TLCs PARTE EEUU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7" dur="indefinite" restart="never" nodeType="tmRoot">
          <p:childTnLst>
            <p:seq>
              <p:cTn id="1028" dur="indefinite" nodeType="mainSeq">
                <p:childTnLst>
                  <p:par>
                    <p:cTn id="1029" fill="hold">
                      <p:stCondLst>
                        <p:cond delay="0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33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4" fill="hold">
                            <p:stCondLst>
                              <p:cond delay="500"/>
                            </p:stCondLst>
                            <p:childTnLst>
                              <p:par>
                                <p:cTn id="103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7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8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9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0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2" fill="hold">
                            <p:stCondLst>
                              <p:cond delay="1650"/>
                            </p:stCondLst>
                            <p:childTnLst>
                              <p:par>
                                <p:cTn id="104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47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8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0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1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2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3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4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5" fill="hold">
                            <p:stCondLst>
                              <p:cond delay="2850"/>
                            </p:stCondLst>
                            <p:childTnLst>
                              <p:par>
                                <p:cTn id="1056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6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1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3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4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5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6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7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8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73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4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6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7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8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9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0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1" fill="hold">
                            <p:stCondLst>
                              <p:cond delay="5550"/>
                            </p:stCondLst>
                            <p:childTnLst>
                              <p:par>
                                <p:cTn id="108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84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89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0" fill="hold">
                            <p:stCondLst>
                              <p:cond delay="6050"/>
                            </p:stCondLst>
                            <p:childTnLst>
                              <p:par>
                                <p:cTn id="109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93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9" fill="hold">
                            <p:stCondLst>
                              <p:cond delay="6550"/>
                            </p:stCondLst>
                            <p:childTnLst>
                              <p:par>
                                <p:cTn id="110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02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07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"/>
          <p:cNvSpPr/>
          <p:nvPr/>
        </p:nvSpPr>
        <p:spPr>
          <a:xfrm>
            <a:off x="395280" y="3608280"/>
            <a:ext cx="165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NUEVOS TEM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2158920" y="2251080"/>
            <a:ext cx="1440000" cy="1440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3778200" y="1989000"/>
            <a:ext cx="4538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Comercio transfronterizo de servici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4498920" y="288936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Telecomunicacio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5218200" y="3789360"/>
            <a:ext cx="273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Comercio electrónic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4857840" y="4238640"/>
            <a:ext cx="297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Política de Competenc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2158920" y="1377720"/>
            <a:ext cx="719280" cy="2158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3059280" y="1089000"/>
            <a:ext cx="338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Compras gubernament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3419640" y="153972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Inversio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4138560" y="243828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Servicios financier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4857840" y="3338640"/>
            <a:ext cx="4286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Entrada temporal personas negoci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4497480" y="4687920"/>
            <a:ext cx="4178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Derechos de propiedad intelectu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4138560" y="5138640"/>
            <a:ext cx="115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Labor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3778200" y="5587920"/>
            <a:ext cx="216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Medio ambien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 flipV="1">
            <a:off x="2158920" y="2673000"/>
            <a:ext cx="180036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 flipV="1">
            <a:off x="2158920" y="3105000"/>
            <a:ext cx="2158920" cy="719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3417840" y="6037200"/>
            <a:ext cx="201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Transparenc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3057480" y="6488280"/>
            <a:ext cx="324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Solución de controversi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2158920" y="3968640"/>
            <a:ext cx="2879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2158920" y="4040280"/>
            <a:ext cx="252108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2158920" y="4113360"/>
            <a:ext cx="2158920" cy="718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2158920" y="4184640"/>
            <a:ext cx="180036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2158920" y="4255920"/>
            <a:ext cx="1440000" cy="1440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2158920" y="4329000"/>
            <a:ext cx="1079640" cy="180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2158920" y="4471920"/>
            <a:ext cx="719280" cy="2158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 flipV="1">
            <a:off x="2158920" y="3536640"/>
            <a:ext cx="251928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 flipV="1">
            <a:off x="2158920" y="1809360"/>
            <a:ext cx="1079640" cy="180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TLCs PARTE EEUU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8" dur="indefinite" restart="never" nodeType="tmRoot">
          <p:childTnLst>
            <p:seq>
              <p:cTn id="1109" dur="indefinite" nodeType="mainSeq">
                <p:childTnLst>
                  <p:par>
                    <p:cTn id="1110" fill="hold">
                      <p:stCondLst>
                        <p:cond delay="0"/>
                      </p:stCondLst>
                      <p:childTnLst>
                        <p:par>
                          <p:cTn id="1111" fill="hold">
                            <p:stCondLst>
                              <p:cond delay="0"/>
                            </p:stCondLst>
                            <p:childTnLst>
                              <p:par>
                                <p:cTn id="1112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14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1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8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9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0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1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3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4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6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7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8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9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0" nodeType="with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2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3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4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5" fill="hold">
                            <p:stCondLst>
                              <p:cond delay="2050"/>
                            </p:stCondLst>
                            <p:childTnLst>
                              <p:par>
                                <p:cTn id="113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8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9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0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1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2" nodeType="with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4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5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6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7" fill="hold">
                            <p:stCondLst>
                              <p:cond delay="2550"/>
                            </p:stCondLst>
                            <p:childTnLst>
                              <p:par>
                                <p:cTn id="1148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0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1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2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3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6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7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9" fill="hold">
                            <p:stCondLst>
                              <p:cond delay="3200"/>
                            </p:stCondLst>
                            <p:childTnLst>
                              <p:par>
                                <p:cTn id="1160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2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3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4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5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6" nodeType="with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8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9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0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3750"/>
                            </p:stCondLst>
                            <p:childTnLst>
                              <p:par>
                                <p:cTn id="1172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4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5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6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7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8" nodeType="with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0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1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2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3" fill="hold">
                            <p:stCondLst>
                              <p:cond delay="4250"/>
                            </p:stCondLst>
                            <p:childTnLst>
                              <p:par>
                                <p:cTn id="1184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6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7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8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9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0" nodeType="with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2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3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4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4900"/>
                            </p:stCondLst>
                            <p:childTnLst>
                              <p:par>
                                <p:cTn id="1196" nodeType="afterEffect" fill="hold" presetClass="entr" presetID="2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98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9" nodeType="with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1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2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3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4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5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6" fill="hold">
                            <p:stCondLst>
                              <p:cond delay="5450"/>
                            </p:stCondLst>
                            <p:childTnLst>
                              <p:par>
                                <p:cTn id="1207" nodeType="afterEffect" fill="hold" presetClass="entr" presetID="5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11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4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5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6" fill="hold">
                            <p:stCondLst>
                              <p:cond delay="6050"/>
                            </p:stCondLst>
                            <p:childTnLst>
                              <p:par>
                                <p:cTn id="1217" nodeType="afterEffect" fill="hold" presetClass="entr" presetID="5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21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4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5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6" fill="hold">
                            <p:stCondLst>
                              <p:cond delay="6700"/>
                            </p:stCondLst>
                            <p:childTnLst>
                              <p:par>
                                <p:cTn id="1227" nodeType="afterEffect" fill="hold" presetClass="entr" presetID="5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4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5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6" fill="hold">
                            <p:stCondLst>
                              <p:cond delay="7200"/>
                            </p:stCondLst>
                            <p:childTnLst>
                              <p:par>
                                <p:cTn id="1237" nodeType="afterEffect" fill="hold" presetClass="entr" presetID="5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41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4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5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6" fill="hold">
                            <p:stCondLst>
                              <p:cond delay="7750"/>
                            </p:stCondLst>
                            <p:childTnLst>
                              <p:par>
                                <p:cTn id="1247" nodeType="afterEffect" fill="hold" presetClass="entr" presetID="5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51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4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5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6" fill="hold">
                            <p:stCondLst>
                              <p:cond delay="8250"/>
                            </p:stCondLst>
                            <p:childTnLst>
                              <p:par>
                                <p:cTn id="1257" nodeType="afterEffect" fill="hold" presetClass="entr" presetID="5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61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4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5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711360" y="2781360"/>
            <a:ext cx="771984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6000" spc="-1" strike="noStrike">
                <a:solidFill>
                  <a:srgbClr val="ffffff"/>
                </a:solidFill>
                <a:latin typeface="Tahoma"/>
              </a:rPr>
              <a:t>MUCHAS GRACIAS</a:t>
            </a:r>
            <a:endParaRPr b="1" lang="en-US" sz="60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6" dur="indefinite" restart="never" nodeType="tmRoot">
          <p:childTnLst>
            <p:seq>
              <p:cTn id="1267" dur="indefinite" nodeType="mainSeq">
                <p:childTnLst>
                  <p:par>
                    <p:cTn id="1268" fill="hold">
                      <p:stCondLst>
                        <p:cond delay="0"/>
                      </p:stCondLst>
                      <p:childTnLst>
                        <p:par>
                          <p:cTn id="1269" fill="hold">
                            <p:stCondLst>
                              <p:cond delay="0"/>
                            </p:stCondLst>
                            <p:childTnLst>
                              <p:par>
                                <p:cTn id="127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72" dur="10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4" nodeType="afterEffect" fill="hold" presetClass="exit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275" dur="1000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6" dur="1000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7" dur="1000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1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8" dur="1000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1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79" dur="10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ESTANDARES LABORALES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Países industrializados que respetan estándares laborales altos están en desventaja de costos frente a los que tienen estándares más baj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Países industrializados y menos desarrollados tienen diferentes estándares laborale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Inadecuada legislación labor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Falta de cumplimiento de la legislación laboral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Diferencia de prioridades social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1" dur="indefinite" restart="never" nodeType="tmRoot">
          <p:childTnLst>
            <p:seq>
              <p:cTn id="1282" dur="indefinite" nodeType="mainSeq">
                <p:childTnLst>
                  <p:par>
                    <p:cTn id="1283" fill="hold">
                      <p:stCondLst>
                        <p:cond delay="0"/>
                      </p:stCondLst>
                      <p:childTnLst>
                        <p:par>
                          <p:cTn id="1284" fill="hold">
                            <p:stCondLst>
                              <p:cond delay="0"/>
                            </p:stCondLst>
                            <p:childTnLst>
                              <p:par>
                                <p:cTn id="1285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8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8" fill="hold">
                            <p:stCondLst>
                              <p:cond delay="500"/>
                            </p:stCondLst>
                            <p:childTnLst>
                              <p:par>
                                <p:cTn id="128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91" dur="500"/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95" dur="500"/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6" fill="hold">
                            <p:stCondLst>
                              <p:cond delay="1500"/>
                            </p:stCondLst>
                            <p:childTnLst>
                              <p:par>
                                <p:cTn id="129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99" dur="500"/>
                                        <p:tgtEl>
                                          <p:spTgt spid="5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0" fill="hold">
                            <p:stCondLst>
                              <p:cond delay="2000"/>
                            </p:stCondLst>
                            <p:childTnLst>
                              <p:par>
                                <p:cTn id="130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03" dur="500"/>
                                        <p:tgtEl>
                                          <p:spTgt spid="5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4" fill="hold">
                            <p:stCondLst>
                              <p:cond delay="2500"/>
                            </p:stCondLst>
                            <p:childTnLst>
                              <p:par>
                                <p:cTn id="130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07" dur="500"/>
                                        <p:tgtEl>
                                          <p:spTgt spid="5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ESTANDARES LABORALES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 algn="just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Respeto principios fundamentales OIT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6504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898560" indent="-3538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el derecho de asociación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98560" indent="-3538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el derecho de organizarse y negociar colectivamente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98560" indent="-3538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la prohibición del uso de cualquier forma de trabajo forzoso u obligatorio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98560" indent="-3538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una edad mínima para el empleo de niños, y la prohibición y eliminación de las peores formas de trabajo infantil; y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98560" indent="-3538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condiciones aceptables de trabajo respecto a salarios mínimos, horas de trabajo y seguridad y salud ocupacional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9856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65040" indent="-365040" algn="just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Cumplimiento de la legislación laboral como compromis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8" dur="indefinite" restart="never" nodeType="tmRoot">
          <p:childTnLst>
            <p:seq>
              <p:cTn id="1309" dur="indefinite" nodeType="mainSeq">
                <p:childTnLst>
                  <p:par>
                    <p:cTn id="1310" fill="hold">
                      <p:stCondLst>
                        <p:cond delay="0"/>
                      </p:stCondLst>
                      <p:childTnLst>
                        <p:par>
                          <p:cTn id="1311" fill="hold">
                            <p:stCondLst>
                              <p:cond delay="0"/>
                            </p:stCondLst>
                            <p:childTnLst>
                              <p:par>
                                <p:cTn id="1312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14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5" fill="hold">
                            <p:stCondLst>
                              <p:cond delay="500"/>
                            </p:stCondLst>
                            <p:childTnLst>
                              <p:par>
                                <p:cTn id="131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18" dur="500"/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22" dur="500"/>
                                        <p:tgtEl>
                                          <p:spTgt spid="5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3" fill="hold">
                            <p:stCondLst>
                              <p:cond delay="1500"/>
                            </p:stCondLst>
                            <p:childTnLst>
                              <p:par>
                                <p:cTn id="132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26" dur="500"/>
                                        <p:tgtEl>
                                          <p:spTgt spid="5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7" fill="hold">
                            <p:stCondLst>
                              <p:cond delay="2000"/>
                            </p:stCondLst>
                            <p:childTnLst>
                              <p:par>
                                <p:cTn id="132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0" dur="500"/>
                                        <p:tgtEl>
                                          <p:spTgt spid="5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1" fill="hold">
                            <p:stCondLst>
                              <p:cond delay="2500"/>
                            </p:stCondLst>
                            <p:childTnLst>
                              <p:par>
                                <p:cTn id="133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4" dur="500"/>
                                        <p:tgtEl>
                                          <p:spTgt spid="5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5" fill="hold">
                            <p:stCondLst>
                              <p:cond delay="3000"/>
                            </p:stCondLst>
                            <p:childTnLst>
                              <p:par>
                                <p:cTn id="133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8" dur="500"/>
                                        <p:tgtEl>
                                          <p:spTgt spid="5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9" fill="hold">
                            <p:stCondLst>
                              <p:cond delay="3500"/>
                            </p:stCondLst>
                            <p:childTnLst>
                              <p:par>
                                <p:cTn id="134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2" dur="500"/>
                                        <p:tgtEl>
                                          <p:spTgt spid="5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SECTOR AGRÍCOL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Comercio agrícola y distorsion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Unión Europea, Japón y Estados Unidos principales países que otorgan subsidios a la exportación y ayudas internas a productos agrícola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¿Foro de solución TLC u OMC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¿Qué pasaría si EEUU elimina sus ayudas internas a los productos agrícolas en TLC y no se avanza en negociaciones OMC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3" dur="indefinite" restart="never" nodeType="tmRoot">
          <p:childTnLst>
            <p:seq>
              <p:cTn id="1344" dur="indefinite" nodeType="mainSeq">
                <p:childTnLst>
                  <p:par>
                    <p:cTn id="1345" fill="hold">
                      <p:stCondLst>
                        <p:cond delay="0"/>
                      </p:stCondLst>
                      <p:childTnLst>
                        <p:par>
                          <p:cTn id="1346" fill="hold">
                            <p:stCondLst>
                              <p:cond delay="0"/>
                            </p:stCondLst>
                            <p:childTnLst>
                              <p:par>
                                <p:cTn id="134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49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0" fill="hold">
                            <p:stCondLst>
                              <p:cond delay="500"/>
                            </p:stCondLst>
                            <p:childTnLst>
                              <p:par>
                                <p:cTn id="135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3" dur="500" fill="hold"/>
                                        <p:tgtEl>
                                          <p:spTgt spid="5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4" dur="500" fill="hold"/>
                                        <p:tgtEl>
                                          <p:spTgt spid="5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5" dur="500" fill="hold"/>
                                        <p:tgtEl>
                                          <p:spTgt spid="5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6" dur="500" fill="hold"/>
                                        <p:tgtEl>
                                          <p:spTgt spid="5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135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0" dur="500" fill="hold"/>
                                        <p:tgtEl>
                                          <p:spTgt spid="5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1" dur="500" fill="hold"/>
                                        <p:tgtEl>
                                          <p:spTgt spid="5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2" dur="500" fill="hold"/>
                                        <p:tgtEl>
                                          <p:spTgt spid="5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3" dur="500" fill="hold"/>
                                        <p:tgtEl>
                                          <p:spTgt spid="5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4" fill="hold">
                            <p:stCondLst>
                              <p:cond delay="1500"/>
                            </p:stCondLst>
                            <p:childTnLst>
                              <p:par>
                                <p:cTn id="136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7" dur="500" fill="hold"/>
                                        <p:tgtEl>
                                          <p:spTgt spid="5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8" dur="500" fill="hold"/>
                                        <p:tgtEl>
                                          <p:spTgt spid="5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9" dur="500" fill="hold"/>
                                        <p:tgtEl>
                                          <p:spTgt spid="5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0" dur="500" fill="hold"/>
                                        <p:tgtEl>
                                          <p:spTgt spid="5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3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4" dur="500" fill="hold"/>
                                        <p:tgtEl>
                                          <p:spTgt spid="5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5" dur="500" fill="hold"/>
                                        <p:tgtEl>
                                          <p:spTgt spid="5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6" dur="500" fill="hold"/>
                                        <p:tgtEl>
                                          <p:spTgt spid="5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7" dur="500" fill="hold"/>
                                        <p:tgtEl>
                                          <p:spTgt spid="5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SECTOR AGRÍCOL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¿Qué cantidad de productos agrícolas americanos ingresan al Perú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¿De dónde importa productos agrícolas el Perú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8" dur="indefinite" restart="never" nodeType="tmRoot">
          <p:childTnLst>
            <p:seq>
              <p:cTn id="1379" dur="indefinite" nodeType="mainSeq">
                <p:childTnLst>
                  <p:par>
                    <p:cTn id="1380" fill="hold">
                      <p:stCondLst>
                        <p:cond delay="0"/>
                      </p:stCondLst>
                      <p:childTnLst>
                        <p:par>
                          <p:cTn id="1381" fill="hold">
                            <p:stCondLst>
                              <p:cond delay="0"/>
                            </p:stCondLst>
                            <p:childTnLst>
                              <p:par>
                                <p:cTn id="1382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8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5" fill="hold">
                            <p:stCondLst>
                              <p:cond delay="500"/>
                            </p:stCondLst>
                            <p:childTnLst>
                              <p:par>
                                <p:cTn id="138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88" dur="500"/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9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92" dur="500"/>
                                        <p:tgtEl>
                                          <p:spTgt spid="5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PROPIEDAD INTELECTU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Relación OMC/TLC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Principio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Protección a corto plazo de la propiedad intelectual contribuye  a la innovación técnica y la transferencia de tecnología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Los conocimientos técnicos deben beneficiar tanto a los productores como a los usuarios y acrecentar el bienestar económico y social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Medicamentos baratos: limitaciones a licencias obligatorias e importaciones paralela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¿Qué es biopiratería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¿El Pisco es peruano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3" dur="indefinite" restart="never" nodeType="tmRoot">
          <p:childTnLst>
            <p:seq>
              <p:cTn id="1394" dur="indefinite" nodeType="mainSeq">
                <p:childTnLst>
                  <p:par>
                    <p:cTn id="1395" fill="hold">
                      <p:stCondLst>
                        <p:cond delay="0"/>
                      </p:stCondLst>
                      <p:childTnLst>
                        <p:par>
                          <p:cTn id="1396" fill="hold">
                            <p:stCondLst>
                              <p:cond delay="0"/>
                            </p:stCondLst>
                            <p:childTnLst>
                              <p:par>
                                <p:cTn id="139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99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0" fill="hold">
                            <p:stCondLst>
                              <p:cond delay="500"/>
                            </p:stCondLst>
                            <p:childTnLst>
                              <p:par>
                                <p:cTn id="140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3" dur="500" fill="hold"/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4" dur="500" fill="hold"/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8" dur="500" fill="hold"/>
                                        <p:tgtEl>
                                          <p:spTgt spid="6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9" dur="500" fill="hold"/>
                                        <p:tgtEl>
                                          <p:spTgt spid="6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41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3" dur="500" fill="hold"/>
                                        <p:tgtEl>
                                          <p:spTgt spid="6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4" dur="500" fill="hold"/>
                                        <p:tgtEl>
                                          <p:spTgt spid="6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41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8" dur="500" fill="hold"/>
                                        <p:tgtEl>
                                          <p:spTgt spid="6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9" dur="500" fill="hold"/>
                                        <p:tgtEl>
                                          <p:spTgt spid="6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0" fill="hold">
                            <p:stCondLst>
                              <p:cond delay="2500"/>
                            </p:stCondLst>
                            <p:childTnLst>
                              <p:par>
                                <p:cTn id="142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3" dur="500" fill="hold"/>
                                        <p:tgtEl>
                                          <p:spTgt spid="6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4" dur="500" fill="hold"/>
                                        <p:tgtEl>
                                          <p:spTgt spid="6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5" fill="hold">
                            <p:stCondLst>
                              <p:cond delay="3000"/>
                            </p:stCondLst>
                            <p:childTnLst>
                              <p:par>
                                <p:cTn id="142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8" dur="500" fill="hold"/>
                                        <p:tgtEl>
                                          <p:spTgt spid="6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9" dur="500" fill="hold"/>
                                        <p:tgtEl>
                                          <p:spTgt spid="6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0" fill="hold">
                            <p:stCondLst>
                              <p:cond delay="3500"/>
                            </p:stCondLst>
                            <p:childTnLst>
                              <p:par>
                                <p:cTn id="143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3" dur="500" fill="hold"/>
                                        <p:tgtEl>
                                          <p:spTgt spid="6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4" dur="500" fill="hold"/>
                                        <p:tgtEl>
                                          <p:spTgt spid="6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COMPRAS GUBERNAMENTALES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Filosofía proteccionista: nuestro dinero debe ser gastado en nuestras mercaderías para asegurar nuestro trabaj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1970: Presupuestos de los gobiernos aumentaron por salud, educación y pensione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Subir impuestos / Reducir costo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Estimularon la competencia entre proveedores del Estado en sus licitaciones por compras estatales y permitieron el ingreso de proveedores extranjero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5" dur="indefinite" restart="never" nodeType="tmRoot">
          <p:childTnLst>
            <p:seq>
              <p:cTn id="1436" dur="indefinite" nodeType="mainSeq">
                <p:childTnLst>
                  <p:par>
                    <p:cTn id="1437" fill="hold">
                      <p:stCondLst>
                        <p:cond delay="0"/>
                      </p:stCondLst>
                      <p:childTnLst>
                        <p:par>
                          <p:cTn id="1438" fill="hold">
                            <p:stCondLst>
                              <p:cond delay="0"/>
                            </p:stCondLst>
                            <p:childTnLst>
                              <p:par>
                                <p:cTn id="1439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2" fill="hold">
                            <p:stCondLst>
                              <p:cond delay="500"/>
                            </p:stCondLst>
                            <p:childTnLst>
                              <p:par>
                                <p:cTn id="144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45" dur="500"/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6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49" dur="500"/>
                                        <p:tgtEl>
                                          <p:spTgt spid="6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0" fill="hold">
                            <p:stCondLst>
                              <p:cond delay="1500"/>
                            </p:stCondLst>
                            <p:childTnLst>
                              <p:par>
                                <p:cTn id="145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53" dur="500"/>
                                        <p:tgtEl>
                                          <p:spTgt spid="6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57" dur="500"/>
                                        <p:tgtEl>
                                          <p:spTgt spid="6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5200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STRATEGIA DE APERTURA COMERCI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ahoma"/>
              </a:rPr>
              <a:t>Liberalización unilateral gen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Acuerdo Multilateral: OMC – Cancú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Acumulación de acuerdos regionales y bilatera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00"/>
                            </p:stCondLst>
                            <p:childTnLst>
                              <p:par>
                                <p:cTn id="25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7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1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500"/>
                            </p:stCondLst>
                            <p:childTnLst>
                              <p:par>
                                <p:cTn id="33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5" dur="5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COMPRAS GUBERNAMENTALES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Preferencias sectoriales vs. Menor gasto estatal (menores impuestos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Corrupción vs. No - discriminació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8" dur="indefinite" restart="never" nodeType="tmRoot">
          <p:childTnLst>
            <p:seq>
              <p:cTn id="1459" dur="indefinite" nodeType="mainSeq">
                <p:childTnLst>
                  <p:par>
                    <p:cTn id="1460" fill="hold">
                      <p:stCondLst>
                        <p:cond delay="0"/>
                      </p:stCondLst>
                      <p:childTnLst>
                        <p:par>
                          <p:cTn id="1461" fill="hold">
                            <p:stCondLst>
                              <p:cond delay="0"/>
                            </p:stCondLst>
                            <p:childTnLst>
                              <p:par>
                                <p:cTn id="1462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64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5" fill="hold">
                            <p:stCondLst>
                              <p:cond delay="500"/>
                            </p:stCondLst>
                            <p:childTnLst>
                              <p:par>
                                <p:cTn id="146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68" dur="500"/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9" fill="hold">
                            <p:stCondLst>
                              <p:cond delay="1000"/>
                            </p:stCondLst>
                            <p:childTnLst>
                              <p:par>
                                <p:cTn id="147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72" dur="500"/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REFORMAS Y APERTURA COMERCIAL EN LOS 90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4219200" y="2266920"/>
            <a:ext cx="53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44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219200" y="2554200"/>
            <a:ext cx="53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30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219200" y="2806560"/>
            <a:ext cx="53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37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19200" y="3057480"/>
            <a:ext cx="53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46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884880" y="4335480"/>
            <a:ext cx="1544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Tahoma"/>
              </a:rPr>
              <a:t>Fuente: Rossini (1991)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927360" y="1906560"/>
            <a:ext cx="339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dde5"/>
                </a:solidFill>
                <a:latin typeface="Tahoma"/>
              </a:rPr>
              <a:t>Estructura de Protección (Julio 1990</a:t>
            </a:r>
            <a:r>
              <a:rPr b="0" lang="es-MX" sz="1400" spc="-1" strike="noStrike">
                <a:solidFill>
                  <a:srgbClr val="ffdde5"/>
                </a:solidFill>
                <a:latin typeface="Tahoma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64280" y="2266920"/>
            <a:ext cx="263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Promedio ponderado arance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808920" y="2554200"/>
            <a:ext cx="181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Bienes de consum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440" y="280656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Insumo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21880" y="3057480"/>
            <a:ext cx="159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Bienes de capit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15760" y="3346560"/>
            <a:ext cx="2561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Promedio simple arancel (%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219200" y="3346560"/>
            <a:ext cx="53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66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96320" y="3633840"/>
            <a:ext cx="1811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Partidas prohibida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204080" y="363384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539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93440" y="3957480"/>
            <a:ext cx="191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Partidas restringida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204080" y="395748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53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98560" y="2554200"/>
            <a:ext cx="377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898560" y="3633840"/>
            <a:ext cx="377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98560" y="3957480"/>
            <a:ext cx="377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4500720" y="3940200"/>
          <a:ext cx="4581360" cy="287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940200"/>
                    <a:ext cx="4581360" cy="28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3" name=""/>
          <p:cNvSpPr/>
          <p:nvPr/>
        </p:nvSpPr>
        <p:spPr>
          <a:xfrm>
            <a:off x="5078520" y="3508200"/>
            <a:ext cx="3886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dde5"/>
                </a:solidFill>
                <a:latin typeface="Tahoma"/>
              </a:rPr>
              <a:t>Evolución del Promedio Arancelari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153120" y="4641840"/>
            <a:ext cx="2050920" cy="1008000"/>
          </a:xfrm>
          <a:prstGeom prst="line">
            <a:avLst/>
          </a:prstGeom>
          <a:ln w="76320">
            <a:solidFill>
              <a:srgbClr val="ff9966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500"/>
                            </p:stCondLst>
                            <p:childTnLst>
                              <p:par>
                                <p:cTn id="1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L PROTECCIONISMO ES RECESIVO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46" name=""/>
          <p:cNvSpPr/>
          <p:nvPr/>
        </p:nvSpPr>
        <p:spPr>
          <a:xfrm>
            <a:off x="2881440" y="2949480"/>
            <a:ext cx="1099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Tahoma"/>
              </a:rPr>
              <a:t>1980 - 198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429440" y="2949480"/>
            <a:ext cx="1099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Tahoma"/>
              </a:rPr>
              <a:t>1985 - 199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972040" y="2949480"/>
            <a:ext cx="1046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Tahoma"/>
              </a:rPr>
              <a:t>1990 -199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560000" y="2949480"/>
            <a:ext cx="1099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Tahoma"/>
              </a:rPr>
              <a:t>1995 - 20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181880" y="4389480"/>
            <a:ext cx="32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PB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346560" y="4389480"/>
            <a:ext cx="7189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-0.4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894200" y="438948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-1.9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440400" y="438948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5.49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8024760" y="438948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2.51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132560" y="4786200"/>
            <a:ext cx="1294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Agropecuari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346560" y="4786200"/>
            <a:ext cx="7189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2.7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894200" y="478620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0.9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440400" y="478620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4.27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024760" y="478620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5.94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9840" y="5181480"/>
            <a:ext cx="726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Minerí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346560" y="5181480"/>
            <a:ext cx="7189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-0.7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894200" y="518148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-7.6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440400" y="518148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6.09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8024760" y="518148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6.57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132560" y="5576760"/>
            <a:ext cx="1227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Manufactur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346560" y="5576760"/>
            <a:ext cx="7189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-2.1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894200" y="557676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-1.7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440400" y="557676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5.32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8024760" y="557676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2.09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870480" y="6297480"/>
            <a:ext cx="2448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Tahoma"/>
              </a:rPr>
              <a:t>Fuente: INEI. Elaboración: COMEXPE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696040" y="2209680"/>
            <a:ext cx="3969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900" spc="-1" strike="noStrike">
                <a:solidFill>
                  <a:srgbClr val="ffffff"/>
                </a:solidFill>
                <a:latin typeface="Tahoma"/>
              </a:rPr>
              <a:t>CRECIMIENTO PROMEDIO ANUAL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943440" y="2587680"/>
            <a:ext cx="1474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900" spc="-1" strike="noStrike">
                <a:solidFill>
                  <a:srgbClr val="ffffff"/>
                </a:solidFill>
                <a:latin typeface="Tahoma"/>
              </a:rPr>
              <a:t>POR SECTOR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114560" y="3238560"/>
            <a:ext cx="7737480" cy="7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114560" y="5973840"/>
            <a:ext cx="7737480" cy="7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119960" y="3417840"/>
            <a:ext cx="170316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Arancel promedi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(fin de periodo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46560" y="3598920"/>
            <a:ext cx="71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63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894200" y="3598920"/>
            <a:ext cx="719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66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40400" y="3598920"/>
            <a:ext cx="719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16.3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8024760" y="3598920"/>
            <a:ext cx="719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13.5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103040" y="3994200"/>
            <a:ext cx="2135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Dispersión arancelar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346560" y="3994200"/>
            <a:ext cx="71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2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894200" y="3994200"/>
            <a:ext cx="719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2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440400" y="3994200"/>
            <a:ext cx="719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3.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8024760" y="3994200"/>
            <a:ext cx="719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3.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500"/>
                            </p:stCondLst>
                            <p:childTnLst>
                              <p:par>
                                <p:cTn id="12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500"/>
                            </p:stCondLst>
                            <p:childTnLst>
                              <p:par>
                                <p:cTn id="12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2000"/>
                            </p:stCondLst>
                            <p:childTnLst>
                              <p:par>
                                <p:cTn id="1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2500"/>
                            </p:stCondLst>
                            <p:childTnLst>
                              <p:par>
                                <p:cTn id="14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3000"/>
                            </p:stCondLst>
                            <p:childTnLst>
                              <p:par>
                                <p:cTn id="16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3500"/>
                            </p:stCondLst>
                            <p:childTnLst>
                              <p:par>
                                <p:cTn id="17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4000"/>
                            </p:stCondLst>
                            <p:childTnLst>
                              <p:par>
                                <p:cTn id="19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45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5000"/>
                            </p:stCondLst>
                            <p:childTnLst>
                              <p:par>
                                <p:cTn id="22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5500"/>
                            </p:stCondLst>
                            <p:childTnLst>
                              <p:par>
                                <p:cTn id="2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6000"/>
                            </p:stCondLst>
                            <p:childTnLst>
                              <p:par>
                                <p:cTn id="24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RESULTADOS DE LA APERTURA COMERCI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86" name=""/>
          <p:cNvSpPr/>
          <p:nvPr/>
        </p:nvSpPr>
        <p:spPr>
          <a:xfrm>
            <a:off x="826920" y="6297480"/>
            <a:ext cx="316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000" spc="-1" strike="noStrike">
                <a:solidFill>
                  <a:srgbClr val="ffffff"/>
                </a:solidFill>
                <a:latin typeface="Tahoma"/>
              </a:rPr>
              <a:t>Fuente: SUNAT. </a:t>
            </a:r>
            <a:r>
              <a:rPr b="1" lang="es-ES" sz="1000" spc="-1" strike="noStrike">
                <a:solidFill>
                  <a:srgbClr val="ffffff"/>
                </a:solidFill>
                <a:latin typeface="Tahoma"/>
              </a:rPr>
              <a:t>Elaboración: COMEXPE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1946160" y="2027160"/>
            <a:ext cx="6784920" cy="2863800"/>
            <a:chOff x="1946160" y="2027160"/>
            <a:chExt cx="6784920" cy="2863800"/>
          </a:xfrm>
        </p:grpSpPr>
        <p:sp>
          <p:nvSpPr>
            <p:cNvPr id="188" name=""/>
            <p:cNvSpPr/>
            <p:nvPr/>
          </p:nvSpPr>
          <p:spPr>
            <a:xfrm>
              <a:off x="2112840" y="4116240"/>
              <a:ext cx="14400" cy="10656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127240" y="4116240"/>
              <a:ext cx="15840" cy="10656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143080" y="4116240"/>
              <a:ext cx="14400" cy="10656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157480" y="4116240"/>
              <a:ext cx="15840" cy="10656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173320" y="4116240"/>
              <a:ext cx="15840" cy="10656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189160" y="4116240"/>
              <a:ext cx="14400" cy="10656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203560" y="4116240"/>
              <a:ext cx="29880" cy="10656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233440" y="4116240"/>
              <a:ext cx="16200" cy="10656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249640" y="4116240"/>
              <a:ext cx="14040" cy="10656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263680" y="4116240"/>
              <a:ext cx="15840" cy="10656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279520" y="4116240"/>
              <a:ext cx="14400" cy="10656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127240" y="4132440"/>
              <a:ext cx="198360" cy="1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598840" y="4208400"/>
              <a:ext cx="14040" cy="1440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612880" y="4208400"/>
              <a:ext cx="16200" cy="14400"/>
            </a:xfrm>
            <a:prstGeom prst="rect">
              <a:avLst/>
            </a:prstGeom>
            <a:solidFill>
              <a:srgbClr val="b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629080" y="4208400"/>
              <a:ext cx="14040" cy="14400"/>
            </a:xfrm>
            <a:prstGeom prst="rect">
              <a:avLst/>
            </a:prstGeom>
            <a:solidFill>
              <a:srgbClr val="c2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643120" y="4208400"/>
              <a:ext cx="15840" cy="14400"/>
            </a:xfrm>
            <a:prstGeom prst="rect">
              <a:avLst/>
            </a:prstGeom>
            <a:solidFill>
              <a:srgbClr val="d9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658960" y="4208400"/>
              <a:ext cx="14400" cy="1440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673360" y="4208400"/>
              <a:ext cx="15840" cy="14400"/>
            </a:xfrm>
            <a:prstGeom prst="rect">
              <a:avLst/>
            </a:prstGeom>
            <a:solidFill>
              <a:srgbClr val="fa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689200" y="4208400"/>
              <a:ext cx="15840" cy="144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705040" y="4208400"/>
              <a:ext cx="14400" cy="14400"/>
            </a:xfrm>
            <a:prstGeom prst="rect">
              <a:avLst/>
            </a:prstGeom>
            <a:solidFill>
              <a:srgbClr val="fa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719440" y="4208400"/>
              <a:ext cx="15840" cy="1440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735280" y="4208400"/>
              <a:ext cx="14400" cy="14400"/>
            </a:xfrm>
            <a:prstGeom prst="rect">
              <a:avLst/>
            </a:prstGeom>
            <a:solidFill>
              <a:srgbClr val="d9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749680" y="4208400"/>
              <a:ext cx="15840" cy="14400"/>
            </a:xfrm>
            <a:prstGeom prst="rect">
              <a:avLst/>
            </a:prstGeom>
            <a:solidFill>
              <a:srgbClr val="c2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612880" y="4222800"/>
              <a:ext cx="182880" cy="1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068640" y="4222800"/>
              <a:ext cx="15840" cy="4608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084480" y="4222800"/>
              <a:ext cx="14400" cy="4608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098880" y="4222800"/>
              <a:ext cx="15840" cy="4608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114720" y="4222800"/>
              <a:ext cx="14400" cy="4608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129120" y="4222800"/>
              <a:ext cx="15840" cy="4608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144960" y="4222800"/>
              <a:ext cx="14040" cy="4608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159000" y="4222800"/>
              <a:ext cx="30240" cy="4608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189240" y="4222800"/>
              <a:ext cx="15840" cy="4608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205080" y="4222800"/>
              <a:ext cx="15840" cy="4608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220920" y="4222800"/>
              <a:ext cx="14400" cy="4608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235320" y="4222800"/>
              <a:ext cx="15840" cy="4608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084480" y="4238640"/>
              <a:ext cx="196920" cy="4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554280" y="4222800"/>
              <a:ext cx="14400" cy="10620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568680" y="4222800"/>
              <a:ext cx="15840" cy="10620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584520" y="4222800"/>
              <a:ext cx="15840" cy="10620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600360" y="4222800"/>
              <a:ext cx="14400" cy="10620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614760" y="4222800"/>
              <a:ext cx="15840" cy="10620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630600" y="4222800"/>
              <a:ext cx="14400" cy="10620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645000" y="4222800"/>
              <a:ext cx="30240" cy="10620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675240" y="4222800"/>
              <a:ext cx="15840" cy="10620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691080" y="4222800"/>
              <a:ext cx="14040" cy="10620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705120" y="4222800"/>
              <a:ext cx="15840" cy="10620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720960" y="4222800"/>
              <a:ext cx="15840" cy="10620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568680" y="4238640"/>
              <a:ext cx="198360" cy="1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040280" y="4222800"/>
              <a:ext cx="14040" cy="16668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054320" y="4222800"/>
              <a:ext cx="16200" cy="16668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070520" y="4222800"/>
              <a:ext cx="14040" cy="16668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84560" y="4222800"/>
              <a:ext cx="15840" cy="16668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100400" y="4222800"/>
              <a:ext cx="15840" cy="16668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116240" y="4222800"/>
              <a:ext cx="14400" cy="16668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130640" y="4222800"/>
              <a:ext cx="30240" cy="16668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160880" y="4222800"/>
              <a:ext cx="15840" cy="16668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176720" y="4222800"/>
              <a:ext cx="14400" cy="16668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191120" y="4222800"/>
              <a:ext cx="15840" cy="16668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206960" y="4222800"/>
              <a:ext cx="15840" cy="16668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054320" y="4238640"/>
              <a:ext cx="198720" cy="1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525920" y="4222800"/>
              <a:ext cx="14400" cy="34920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540320" y="4222800"/>
              <a:ext cx="15840" cy="349200"/>
            </a:xfrm>
            <a:prstGeom prst="rect">
              <a:avLst/>
            </a:prstGeom>
            <a:solidFill>
              <a:srgbClr val="b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556160" y="4222800"/>
              <a:ext cx="14400" cy="349200"/>
            </a:xfrm>
            <a:prstGeom prst="rect">
              <a:avLst/>
            </a:prstGeom>
            <a:solidFill>
              <a:srgbClr val="c2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570560" y="4222800"/>
              <a:ext cx="15840" cy="349200"/>
            </a:xfrm>
            <a:prstGeom prst="rect">
              <a:avLst/>
            </a:prstGeom>
            <a:solidFill>
              <a:srgbClr val="d9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586400" y="4222800"/>
              <a:ext cx="14040" cy="34920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600440" y="4222800"/>
              <a:ext cx="15840" cy="349200"/>
            </a:xfrm>
            <a:prstGeom prst="rect">
              <a:avLst/>
            </a:prstGeom>
            <a:solidFill>
              <a:srgbClr val="fa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616280" y="4222800"/>
              <a:ext cx="16200" cy="3492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632480" y="4222800"/>
              <a:ext cx="14040" cy="349200"/>
            </a:xfrm>
            <a:prstGeom prst="rect">
              <a:avLst/>
            </a:prstGeom>
            <a:solidFill>
              <a:srgbClr val="fa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646520" y="4222800"/>
              <a:ext cx="15840" cy="34920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662360" y="4222800"/>
              <a:ext cx="14400" cy="349200"/>
            </a:xfrm>
            <a:prstGeom prst="rect">
              <a:avLst/>
            </a:prstGeom>
            <a:solidFill>
              <a:srgbClr val="d9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676760" y="4222800"/>
              <a:ext cx="15840" cy="349200"/>
            </a:xfrm>
            <a:prstGeom prst="rect">
              <a:avLst/>
            </a:prstGeom>
            <a:solidFill>
              <a:srgbClr val="c2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540320" y="4238640"/>
              <a:ext cx="182520" cy="34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995720" y="4222800"/>
              <a:ext cx="15840" cy="31896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011560" y="4222800"/>
              <a:ext cx="14400" cy="31896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025960" y="4222800"/>
              <a:ext cx="15840" cy="31896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041800" y="4222800"/>
              <a:ext cx="14400" cy="31896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056200" y="4222800"/>
              <a:ext cx="15840" cy="31896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072040" y="4222800"/>
              <a:ext cx="14400" cy="31896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086440" y="4222800"/>
              <a:ext cx="31680" cy="31896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118120" y="4222800"/>
              <a:ext cx="14400" cy="31896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132520" y="4222800"/>
              <a:ext cx="15840" cy="31896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148360" y="4222800"/>
              <a:ext cx="14040" cy="31896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162400" y="4222800"/>
              <a:ext cx="16200" cy="31896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011560" y="4238640"/>
              <a:ext cx="1969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481720" y="4222800"/>
              <a:ext cx="14040" cy="25704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495760" y="4222800"/>
              <a:ext cx="16200" cy="25704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511960" y="4222800"/>
              <a:ext cx="15840" cy="25704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527800" y="4222800"/>
              <a:ext cx="14040" cy="25704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541840" y="4222800"/>
              <a:ext cx="15840" cy="25704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557680" y="4222800"/>
              <a:ext cx="14400" cy="25704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572080" y="4222800"/>
              <a:ext cx="30240" cy="25704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602320" y="4222800"/>
              <a:ext cx="15840" cy="25704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618160" y="4222800"/>
              <a:ext cx="15840" cy="25704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634000" y="4222800"/>
              <a:ext cx="14400" cy="25704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648400" y="4222800"/>
              <a:ext cx="15840" cy="25704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495760" y="4238640"/>
              <a:ext cx="198720" cy="25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967360" y="4222800"/>
              <a:ext cx="14400" cy="37944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981760" y="4222800"/>
              <a:ext cx="15840" cy="379440"/>
            </a:xfrm>
            <a:prstGeom prst="rect">
              <a:avLst/>
            </a:prstGeom>
            <a:solidFill>
              <a:srgbClr val="b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997600" y="4222800"/>
              <a:ext cx="15840" cy="379440"/>
            </a:xfrm>
            <a:prstGeom prst="rect">
              <a:avLst/>
            </a:prstGeom>
            <a:solidFill>
              <a:srgbClr val="c2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013440" y="4222800"/>
              <a:ext cx="14400" cy="379440"/>
            </a:xfrm>
            <a:prstGeom prst="rect">
              <a:avLst/>
            </a:prstGeom>
            <a:solidFill>
              <a:srgbClr val="d9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027840" y="4222800"/>
              <a:ext cx="15840" cy="37944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043680" y="4222800"/>
              <a:ext cx="14400" cy="379440"/>
            </a:xfrm>
            <a:prstGeom prst="rect">
              <a:avLst/>
            </a:prstGeom>
            <a:solidFill>
              <a:srgbClr val="fa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058080" y="4222800"/>
              <a:ext cx="15840" cy="37944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073920" y="4222800"/>
              <a:ext cx="14040" cy="379440"/>
            </a:xfrm>
            <a:prstGeom prst="rect">
              <a:avLst/>
            </a:prstGeom>
            <a:solidFill>
              <a:srgbClr val="fa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087960" y="4222800"/>
              <a:ext cx="15840" cy="37944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103800" y="4222800"/>
              <a:ext cx="14400" cy="379440"/>
            </a:xfrm>
            <a:prstGeom prst="rect">
              <a:avLst/>
            </a:prstGeom>
            <a:solidFill>
              <a:srgbClr val="d9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118200" y="4222800"/>
              <a:ext cx="15840" cy="379440"/>
            </a:xfrm>
            <a:prstGeom prst="rect">
              <a:avLst/>
            </a:prstGeom>
            <a:solidFill>
              <a:srgbClr val="c2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981760" y="4238640"/>
              <a:ext cx="182520" cy="37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437160" y="4222800"/>
              <a:ext cx="16200" cy="12204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453360" y="4222800"/>
              <a:ext cx="14040" cy="12204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467400" y="4222800"/>
              <a:ext cx="15840" cy="12204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483240" y="4222800"/>
              <a:ext cx="14400" cy="12204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497640" y="4222800"/>
              <a:ext cx="15840" cy="12204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513480" y="4222800"/>
              <a:ext cx="15840" cy="12204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529320" y="4222800"/>
              <a:ext cx="30240" cy="12204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559560" y="4222800"/>
              <a:ext cx="14400" cy="12204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573960" y="4222800"/>
              <a:ext cx="15840" cy="12204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589800" y="4222800"/>
              <a:ext cx="14040" cy="12204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603840" y="4222800"/>
              <a:ext cx="16200" cy="12204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453360" y="4238640"/>
              <a:ext cx="196560" cy="12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923160" y="4222800"/>
              <a:ext cx="15840" cy="9036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939000" y="4222800"/>
              <a:ext cx="14400" cy="9036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953400" y="4222800"/>
              <a:ext cx="15840" cy="9036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969240" y="4222800"/>
              <a:ext cx="14040" cy="9036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983280" y="4222800"/>
              <a:ext cx="15840" cy="9036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999120" y="4222800"/>
              <a:ext cx="14400" cy="9036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7013520" y="4222800"/>
              <a:ext cx="31680" cy="9036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7045200" y="4222800"/>
              <a:ext cx="14400" cy="9036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059600" y="4222800"/>
              <a:ext cx="15840" cy="9036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075440" y="4222800"/>
              <a:ext cx="14400" cy="9036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7089840" y="4222800"/>
              <a:ext cx="15840" cy="9036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6939000" y="4238640"/>
              <a:ext cx="196920" cy="9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7408800" y="4222800"/>
              <a:ext cx="15840" cy="6012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7424640" y="4222800"/>
              <a:ext cx="14400" cy="6012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439040" y="4222800"/>
              <a:ext cx="15840" cy="6012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454880" y="4222800"/>
              <a:ext cx="14400" cy="6012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469280" y="4222800"/>
              <a:ext cx="15840" cy="6012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7485120" y="4222800"/>
              <a:ext cx="14400" cy="6012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499520" y="4222800"/>
              <a:ext cx="29880" cy="6012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7529400" y="4222800"/>
              <a:ext cx="15840" cy="6012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7545240" y="4222800"/>
              <a:ext cx="16200" cy="6012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7561440" y="4222800"/>
              <a:ext cx="14040" cy="6012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7575480" y="4222800"/>
              <a:ext cx="15840" cy="6012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7424640" y="4238640"/>
              <a:ext cx="196920" cy="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7894800" y="4208400"/>
              <a:ext cx="14040" cy="1440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7908840" y="4208400"/>
              <a:ext cx="15840" cy="14400"/>
            </a:xfrm>
            <a:prstGeom prst="rect">
              <a:avLst/>
            </a:prstGeom>
            <a:solidFill>
              <a:srgbClr val="b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7924680" y="4208400"/>
              <a:ext cx="15840" cy="14400"/>
            </a:xfrm>
            <a:prstGeom prst="rect">
              <a:avLst/>
            </a:prstGeom>
            <a:solidFill>
              <a:srgbClr val="c2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7940520" y="4208400"/>
              <a:ext cx="14400" cy="14400"/>
            </a:xfrm>
            <a:prstGeom prst="rect">
              <a:avLst/>
            </a:prstGeom>
            <a:solidFill>
              <a:srgbClr val="d9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7954920" y="4208400"/>
              <a:ext cx="15840" cy="1440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970760" y="4208400"/>
              <a:ext cx="14400" cy="14400"/>
            </a:xfrm>
            <a:prstGeom prst="rect">
              <a:avLst/>
            </a:prstGeom>
            <a:solidFill>
              <a:srgbClr val="fa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985160" y="4208400"/>
              <a:ext cx="15840" cy="144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001000" y="4208400"/>
              <a:ext cx="14400" cy="14400"/>
            </a:xfrm>
            <a:prstGeom prst="rect">
              <a:avLst/>
            </a:prstGeom>
            <a:solidFill>
              <a:srgbClr val="fa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8015400" y="4208400"/>
              <a:ext cx="15840" cy="1440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8031240" y="4208400"/>
              <a:ext cx="14040" cy="14400"/>
            </a:xfrm>
            <a:prstGeom prst="rect">
              <a:avLst/>
            </a:prstGeom>
            <a:solidFill>
              <a:srgbClr val="d9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8045280" y="4208400"/>
              <a:ext cx="16200" cy="14400"/>
            </a:xfrm>
            <a:prstGeom prst="rect">
              <a:avLst/>
            </a:prstGeom>
            <a:solidFill>
              <a:srgbClr val="c2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908840" y="4222800"/>
              <a:ext cx="182520" cy="1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364600" y="4146480"/>
              <a:ext cx="15840" cy="7632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380440" y="4146480"/>
              <a:ext cx="14400" cy="7632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394840" y="4146480"/>
              <a:ext cx="15840" cy="7632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8410680" y="4146480"/>
              <a:ext cx="14040" cy="7632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8424720" y="4146480"/>
              <a:ext cx="15840" cy="7632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8440560" y="4146480"/>
              <a:ext cx="16200" cy="7632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8456760" y="4146480"/>
              <a:ext cx="29880" cy="7632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8486640" y="4146480"/>
              <a:ext cx="14400" cy="7632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8501040" y="4146480"/>
              <a:ext cx="15840" cy="7632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8516880" y="4146480"/>
              <a:ext cx="14400" cy="7632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531280" y="4146480"/>
              <a:ext cx="15840" cy="7632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8380440" y="4162320"/>
              <a:ext cx="19692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990800" y="2617920"/>
              <a:ext cx="1440" cy="22716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946160" y="4889520"/>
              <a:ext cx="44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946160" y="4572000"/>
              <a:ext cx="44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946160" y="4238640"/>
              <a:ext cx="44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946160" y="3919680"/>
              <a:ext cx="44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946160" y="3586320"/>
              <a:ext cx="44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946160" y="3268800"/>
              <a:ext cx="44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946160" y="2935440"/>
              <a:ext cx="44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946160" y="2617920"/>
              <a:ext cx="44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990800" y="4238640"/>
              <a:ext cx="67388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199080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 flipV="1">
              <a:off x="2476440" y="4238280"/>
              <a:ext cx="180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 flipV="1">
              <a:off x="294804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343224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 flipV="1">
              <a:off x="3917880" y="4238280"/>
              <a:ext cx="180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 flipV="1">
              <a:off x="440388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 flipV="1">
              <a:off x="4875120" y="4238280"/>
              <a:ext cx="180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 flipV="1">
              <a:off x="5359320" y="4238280"/>
              <a:ext cx="180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 flipV="1">
              <a:off x="584532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 flipV="1">
              <a:off x="6316560" y="4238280"/>
              <a:ext cx="180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 flipV="1">
              <a:off x="680256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 flipV="1">
              <a:off x="728820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 flipV="1">
              <a:off x="777240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 flipV="1">
              <a:off x="824400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 flipV="1">
              <a:off x="872964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233440" y="2784600"/>
              <a:ext cx="6253200" cy="923760"/>
            </a:xfrm>
            <a:custGeom>
              <a:avLst/>
              <a:gdLst/>
              <a:ahLst/>
              <a:rect l="l" t="t" r="r" b="b"/>
              <a:pathLst>
                <a:path w="412" h="61">
                  <a:moveTo>
                    <a:pt x="0" y="61"/>
                  </a:moveTo>
                  <a:lnTo>
                    <a:pt x="32" y="60"/>
                  </a:lnTo>
                  <a:lnTo>
                    <a:pt x="63" y="58"/>
                  </a:lnTo>
                  <a:lnTo>
                    <a:pt x="95" y="60"/>
                  </a:lnTo>
                  <a:lnTo>
                    <a:pt x="127" y="49"/>
                  </a:lnTo>
                  <a:lnTo>
                    <a:pt x="158" y="38"/>
                  </a:lnTo>
                  <a:lnTo>
                    <a:pt x="190" y="33"/>
                  </a:lnTo>
                  <a:lnTo>
                    <a:pt x="222" y="24"/>
                  </a:lnTo>
                  <a:lnTo>
                    <a:pt x="254" y="35"/>
                  </a:lnTo>
                  <a:lnTo>
                    <a:pt x="285" y="31"/>
                  </a:lnTo>
                  <a:lnTo>
                    <a:pt x="317" y="22"/>
                  </a:lnTo>
                  <a:lnTo>
                    <a:pt x="349" y="22"/>
                  </a:lnTo>
                  <a:lnTo>
                    <a:pt x="380" y="14"/>
                  </a:lnTo>
                  <a:lnTo>
                    <a:pt x="412" y="0"/>
                  </a:lnTo>
                </a:path>
              </a:pathLst>
            </a:custGeom>
            <a:noFill/>
            <a:ln w="4608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2233440" y="2874960"/>
              <a:ext cx="6253200" cy="954000"/>
            </a:xfrm>
            <a:custGeom>
              <a:avLst/>
              <a:gdLst/>
              <a:ahLst/>
              <a:rect l="l" t="t" r="r" b="b"/>
              <a:pathLst>
                <a:path w="412" h="63">
                  <a:moveTo>
                    <a:pt x="0" y="63"/>
                  </a:moveTo>
                  <a:lnTo>
                    <a:pt x="32" y="56"/>
                  </a:lnTo>
                  <a:lnTo>
                    <a:pt x="63" y="50"/>
                  </a:lnTo>
                  <a:lnTo>
                    <a:pt x="95" y="47"/>
                  </a:lnTo>
                  <a:lnTo>
                    <a:pt x="127" y="32"/>
                  </a:lnTo>
                  <a:lnTo>
                    <a:pt x="158" y="9"/>
                  </a:lnTo>
                  <a:lnTo>
                    <a:pt x="190" y="7"/>
                  </a:lnTo>
                  <a:lnTo>
                    <a:pt x="222" y="0"/>
                  </a:lnTo>
                  <a:lnTo>
                    <a:pt x="254" y="4"/>
                  </a:lnTo>
                  <a:lnTo>
                    <a:pt x="285" y="18"/>
                  </a:lnTo>
                  <a:lnTo>
                    <a:pt x="317" y="10"/>
                  </a:lnTo>
                  <a:lnTo>
                    <a:pt x="349" y="11"/>
                  </a:lnTo>
                  <a:lnTo>
                    <a:pt x="380" y="9"/>
                  </a:lnTo>
                  <a:lnTo>
                    <a:pt x="412" y="0"/>
                  </a:lnTo>
                </a:path>
              </a:pathLst>
            </a:custGeom>
            <a:noFill/>
            <a:ln w="4608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490920" y="2027160"/>
              <a:ext cx="2718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ffff"/>
                  </a:solidFill>
                  <a:latin typeface="Tahoma"/>
                </a:rPr>
                <a:t>PERU : INTERNATIONAL TRAD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442760" y="2254320"/>
              <a:ext cx="10278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ffff"/>
                  </a:solidFill>
                  <a:latin typeface="Tahoma"/>
                </a:rPr>
                <a:t>US$ Millon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059560" y="3844800"/>
              <a:ext cx="243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Tahoma"/>
                </a:rPr>
                <a:t>686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545560" y="3935520"/>
              <a:ext cx="243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Tahoma"/>
                </a:rPr>
                <a:t>147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996280" y="4359240"/>
              <a:ext cx="328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Tahoma"/>
                </a:rPr>
                <a:t>(221)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8" name=""/>
          <p:cNvSpPr/>
          <p:nvPr/>
        </p:nvSpPr>
        <p:spPr>
          <a:xfrm>
            <a:off x="3482280" y="4419720"/>
            <a:ext cx="328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679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3891960" y="4479840"/>
            <a:ext cx="4471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1,049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5333400" y="4572000"/>
            <a:ext cx="4471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1,591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365160" y="4435560"/>
            <a:ext cx="328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691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6850800" y="4405320"/>
            <a:ext cx="328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558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7841520" y="3935520"/>
            <a:ext cx="243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136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8312760" y="3875040"/>
            <a:ext cx="243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484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4317480" y="4768920"/>
            <a:ext cx="4471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2,135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4923720" y="4799160"/>
            <a:ext cx="4471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1,925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336800" y="4375080"/>
            <a:ext cx="328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387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5941440" y="4738680"/>
            <a:ext cx="4471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2,358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1182600" y="4782960"/>
            <a:ext cx="5385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(4,000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1182600" y="4465800"/>
            <a:ext cx="5385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(2,000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1592280" y="4132440"/>
            <a:ext cx="9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1254600" y="3814920"/>
            <a:ext cx="425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2,00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1254600" y="3481560"/>
            <a:ext cx="425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4,00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254600" y="3162240"/>
            <a:ext cx="425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6,00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1254600" y="2828880"/>
            <a:ext cx="425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8,00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1139040" y="2511360"/>
            <a:ext cx="5205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10,00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 rot="18900000">
            <a:off x="175716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 rot="18900000">
            <a:off x="224280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1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rot="18900000">
            <a:off x="271440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2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rot="18900000">
            <a:off x="319860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3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 rot="18900000">
            <a:off x="368424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4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 rot="18900000">
            <a:off x="415584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5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 rot="18900000">
            <a:off x="464148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6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 rot="18900000">
            <a:off x="512712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7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 rot="18900000">
            <a:off x="561132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8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 rot="18900000">
            <a:off x="608292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9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 rot="18900000">
            <a:off x="656856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200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 rot="18900000">
            <a:off x="705456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2001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 rot="18900000">
            <a:off x="752436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2002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 rot="18900000">
            <a:off x="801036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2003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920960" y="5614920"/>
            <a:ext cx="108000" cy="90720"/>
          </a:xfrm>
          <a:prstGeom prst="rect">
            <a:avLst/>
          </a:prstGeom>
          <a:solidFill>
            <a:srgbClr val="a98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2028960" y="5614920"/>
            <a:ext cx="179280" cy="90720"/>
          </a:xfrm>
          <a:prstGeom prst="rect">
            <a:avLst/>
          </a:prstGeom>
          <a:solidFill>
            <a:srgbClr val="f6c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2406960" y="5556240"/>
            <a:ext cx="13388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TRADE BALANCE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4813200" y="5646600"/>
            <a:ext cx="409680" cy="1800"/>
          </a:xfrm>
          <a:prstGeom prst="line">
            <a:avLst/>
          </a:prstGeom>
          <a:ln w="46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5290920" y="5556240"/>
            <a:ext cx="732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EXPORTS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6983280" y="5646600"/>
            <a:ext cx="409680" cy="1800"/>
          </a:xfrm>
          <a:prstGeom prst="line">
            <a:avLst/>
          </a:prstGeom>
          <a:ln w="46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7458120" y="5556240"/>
            <a:ext cx="750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IMPORTS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73320" y="5614920"/>
            <a:ext cx="108000" cy="90720"/>
          </a:xfrm>
          <a:prstGeom prst="rect">
            <a:avLst/>
          </a:prstGeom>
          <a:solidFill>
            <a:srgbClr val="a98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0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5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00"/>
                            </p:stCondLst>
                            <p:childTnLst>
                              <p:par>
                                <p:cTn id="25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9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500"/>
                            </p:stCondLst>
                            <p:childTnLst>
                              <p:par>
                                <p:cTn id="26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2000"/>
                            </p:stCondLst>
                            <p:childTnLst>
                              <p:par>
                                <p:cTn id="302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04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07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13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16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19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22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25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28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31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34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2500"/>
                            </p:stCondLst>
                            <p:childTnLst>
                              <p:par>
                                <p:cTn id="33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38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1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4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7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0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3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6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9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2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5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8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71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74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77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3000"/>
                            </p:stCondLst>
                            <p:childTnLst>
                              <p:par>
                                <p:cTn id="379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81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84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87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45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3500"/>
                            </p:stCondLst>
                            <p:childTnLst>
                              <p:par>
                                <p:cTn id="395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97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45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4000"/>
                            </p:stCondLst>
                            <p:childTnLst>
                              <p:par>
                                <p:cTn id="405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07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45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4500"/>
                            </p:stCondLst>
                            <p:childTnLst>
                              <p:par>
                                <p:cTn id="41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7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5200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RESULTADOS DE LA APERTURA COMERCI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30" name=""/>
          <p:cNvSpPr/>
          <p:nvPr/>
        </p:nvSpPr>
        <p:spPr>
          <a:xfrm>
            <a:off x="826920" y="6297480"/>
            <a:ext cx="316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000" spc="-1" strike="noStrike">
                <a:solidFill>
                  <a:srgbClr val="ffffff"/>
                </a:solidFill>
                <a:latin typeface="Tahoma"/>
              </a:rPr>
              <a:t>Fuente: SUNAT. </a:t>
            </a:r>
            <a:r>
              <a:rPr b="1" lang="es-ES" sz="1000" spc="-1" strike="noStrike">
                <a:solidFill>
                  <a:srgbClr val="ffffff"/>
                </a:solidFill>
                <a:latin typeface="Tahoma"/>
              </a:rPr>
              <a:t>Elaboración: COMEXPE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1" name="" descr=""/>
          <p:cNvPicPr/>
          <p:nvPr/>
        </p:nvPicPr>
        <p:blipFill>
          <a:blip r:embed="rId1"/>
          <a:stretch/>
        </p:blipFill>
        <p:spPr>
          <a:xfrm>
            <a:off x="971640" y="1835280"/>
            <a:ext cx="7592760" cy="42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0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24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500"/>
                            </p:stCondLst>
                            <p:childTnLst>
                              <p:par>
                                <p:cTn id="42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8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1000"/>
                            </p:stCondLst>
                            <p:childTnLst>
                              <p:par>
                                <p:cTn id="43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2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25092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RESULTADOS DE LA APERTURA COMERCIA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33" name=""/>
          <p:cNvGraphicFramePr/>
          <p:nvPr/>
        </p:nvGraphicFramePr>
        <p:xfrm>
          <a:off x="971640" y="1835280"/>
          <a:ext cx="7592760" cy="4282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1835280"/>
                    <a:ext cx="7592760" cy="428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5" name=""/>
          <p:cNvSpPr/>
          <p:nvPr/>
        </p:nvSpPr>
        <p:spPr>
          <a:xfrm>
            <a:off x="826920" y="6297480"/>
            <a:ext cx="316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Tahoma"/>
              </a:rPr>
              <a:t>Fuente: BCRP. Elaboración: COMEXPE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0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39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500"/>
                            </p:stCondLst>
                            <p:childTnLst>
                              <p:par>
                                <p:cTn id="441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43" dur="1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1500"/>
                            </p:stCondLst>
                            <p:childTnLst>
                              <p:par>
                                <p:cTn id="44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47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COMPARACIÓN ENTRE CHILE, COLOMBIA Y PERÚ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graphicFrame>
        <p:nvGraphicFramePr>
          <p:cNvPr id="437" name=""/>
          <p:cNvGraphicFramePr/>
          <p:nvPr/>
        </p:nvGraphicFramePr>
        <p:xfrm>
          <a:off x="324000" y="3273480"/>
          <a:ext cx="3958920" cy="2698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3273480"/>
                    <a:ext cx="3958920" cy="269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9" name=""/>
          <p:cNvSpPr/>
          <p:nvPr/>
        </p:nvSpPr>
        <p:spPr>
          <a:xfrm>
            <a:off x="900000" y="6095880"/>
            <a:ext cx="2452680" cy="7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Tahoma"/>
              </a:rPr>
              <a:t>Fuente:Penn World Table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Tahoma"/>
              </a:rPr>
              <a:t>*</a:t>
            </a:r>
            <a:r>
              <a:rPr b="1" lang="es-ES" sz="1000" spc="-1" strike="noStrike">
                <a:solidFill>
                  <a:srgbClr val="ffffff"/>
                </a:solidFill>
                <a:latin typeface="Tahoma"/>
              </a:rPr>
              <a:t>Método utilizado: Laspeyre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Tahoma"/>
              </a:rPr>
              <a:t>Elaboración: COMEXPE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40" name=""/>
          <p:cNvGraphicFramePr/>
          <p:nvPr/>
        </p:nvGraphicFramePr>
        <p:xfrm>
          <a:off x="5076720" y="1779480"/>
          <a:ext cx="3959280" cy="26989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4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76720" y="1779480"/>
                    <a:ext cx="3959280" cy="26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2" name=""/>
          <p:cNvSpPr/>
          <p:nvPr/>
        </p:nvSpPr>
        <p:spPr>
          <a:xfrm>
            <a:off x="6443640" y="4599000"/>
            <a:ext cx="2449440" cy="7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Tahoma"/>
              </a:rPr>
              <a:t>Fuente: Penn World Tabl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Tahoma"/>
              </a:rPr>
              <a:t>Metodo: Precios constantes en %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Tahoma"/>
              </a:rPr>
              <a:t>Elaboración: COMEXPE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0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54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500"/>
                            </p:stCondLst>
                            <p:childTnLst>
                              <p:par>
                                <p:cTn id="45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58" dur="1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500"/>
                            </p:stCondLst>
                            <p:childTnLst>
                              <p:par>
                                <p:cTn id="460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62" dur="1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2500"/>
                            </p:stCondLst>
                            <p:childTnLst>
                              <p:par>
                                <p:cTn id="46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66" dur="1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3500"/>
                            </p:stCondLst>
                            <p:childTnLst>
                              <p:par>
                                <p:cTn id="468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70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5T16:13:51Z</dcterms:created>
  <dc:creator>jore</dc:creator>
  <dc:description/>
  <dc:language>en-US</dc:language>
  <cp:lastModifiedBy>User</cp:lastModifiedBy>
  <dcterms:modified xsi:type="dcterms:W3CDTF">2004-07-15T03:41:39Z</dcterms:modified>
  <cp:revision>659</cp:revision>
  <dc:subject/>
  <dc:title>COMEXPERU Presentación Instituciona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812261219</vt:r8>
  </property>
  <property fmtid="{D5CDD505-2E9C-101B-9397-08002B2CF9AE}" pid="3" name="_AuthorEmail">
    <vt:lpwstr>disasi@comexperu.org.pe</vt:lpwstr>
  </property>
  <property fmtid="{D5CDD505-2E9C-101B-9397-08002B2CF9AE}" pid="4" name="_AuthorEmailDisplayName">
    <vt:lpwstr>Diego Isasi</vt:lpwstr>
  </property>
  <property fmtid="{D5CDD505-2E9C-101B-9397-08002B2CF9AE}" pid="5" name="_EmailSubject">
    <vt:lpwstr>Presentación power point</vt:lpwstr>
  </property>
  <property fmtid="{D5CDD505-2E9C-101B-9397-08002B2CF9AE}" pid="6" name="_PreviousAdHocReviewCycleID">
    <vt:r8>1947882776</vt:r8>
  </property>
  <property fmtid="{D5CDD505-2E9C-101B-9397-08002B2CF9AE}" pid="7" name="_ReviewingToolsShownOnce">
    <vt:lpwstr/>
  </property>
</Properties>
</file>